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BB1-AB6C-49C6-BD8B-84FD6A11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F13-0EED-4CD8-B8E8-BAF68CB6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709-CFCA-4354-91CA-61CA8C9D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951-928A-4C1B-BBC2-6BBFF747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A17-6E75-4ACA-9371-33193BDC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AAC-A1E5-4096-BF14-2DE9A408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A7A-1F3C-423A-82C2-CA2A1BBF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3BF-EE54-4220-9430-9DB76541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07A-D959-4468-A4BE-4F949026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72D-DA6A-4657-AB15-39B141B9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5A8-38D2-4AAC-83B3-9D29DFC2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423-8E1E-464C-BCD5-66944800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C5BB-FA47-4CF1-B976-CE1F7120E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ges of Knighthoo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of Chivalry, and Courtly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867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Sydney Mc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7315200" cy="69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castle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castl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5105520" cy="345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16520" y="914400"/>
            <a:ext cx="332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228960" y="151920"/>
            <a:ext cx="80773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Squire o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Squire being kn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24379" r="0" b="0"/>
          <a:stretch/>
        </p:blipFill>
        <p:spPr>
          <a:xfrm>
            <a:off x="4876920" y="1905120"/>
            <a:ext cx="426708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3382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30492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of Jean le Mei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437920" y="4800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ar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0"/>
            <a:ext cx="7343640" cy="82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                                          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307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ights f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2120" y="1143000"/>
            <a:ext cx="7467480" cy="5257800"/>
            <a:chOff x="762120" y="1143000"/>
            <a:chExt cx="7467480" cy="5257800"/>
          </a:xfrm>
        </p:grpSpPr>
        <p:pic>
          <p:nvPicPr>
            <p:cNvPr id="61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143000"/>
              <a:ext cx="746748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762120" y="1143000"/>
              <a:ext cx="746748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13716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22:57:12Z</dcterms:created>
  <dc:creator>Owner</dc:creator>
  <dc:description/>
  <dc:language>en-US</dc:language>
  <cp:lastModifiedBy>Owner</cp:lastModifiedBy>
  <dcterms:modified xsi:type="dcterms:W3CDTF">2009-10-02T01:55:33Z</dcterms:modified>
  <cp:revision>6</cp:revision>
  <dc:subject/>
  <dc:title>The Stages of Knighthood,  The Code of Chivalry, and Courtly Love</dc:title>
</cp:coreProperties>
</file>