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C584-8537-4DBE-99A3-504DC32D0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8B42-F0B7-40C5-88C6-54D1E6EB3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928A-448A-4992-B2E9-224738E66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7709-C153-4ECE-A8EE-D161EEA0D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2E6C-E3D1-4E17-B07B-5843B6971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4221-A297-4B44-A631-461ECD159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0DED-42B2-4C2B-A432-11586CBA1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AEDF-2431-4D38-B0FB-DDDBE7A21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3709-6589-4F3B-9A8E-1CCF7963D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EAC8-EEDE-4E0B-81B1-7732173EC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02DF-E444-4FE4-8CE4-ADEE13C67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62F9-10FE-4BCB-8E8E-56BA8E38E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F27E4-74B1-4C8F-992F-AF87F9B384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tages of Knighthood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de of Chivalry, and Courtly L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5867280"/>
            <a:ext cx="64008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: Sydney Mc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743200" y="1371600"/>
            <a:ext cx="34290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0" y="761760"/>
            <a:ext cx="72388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62120" y="685440"/>
            <a:ext cx="7315200" cy="69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) A castle y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) A castle 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"/>
          <p:cNvPicPr/>
          <p:nvPr/>
        </p:nvPicPr>
        <p:blipFill>
          <a:blip r:embed="rId2"/>
          <a:stretch/>
        </p:blipFill>
        <p:spPr>
          <a:xfrm>
            <a:off x="457200" y="2743200"/>
            <a:ext cx="5105520" cy="34592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5816520" y="914400"/>
            <a:ext cx="33274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-228960" y="151920"/>
            <a:ext cx="807732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48320" y="0"/>
            <a:ext cx="4495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) Squire on ho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) Squire being knigh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rcRect l="0" t="24379" r="0" b="0"/>
          <a:stretch/>
        </p:blipFill>
        <p:spPr>
          <a:xfrm>
            <a:off x="4876920" y="1905120"/>
            <a:ext cx="4267080" cy="48006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533520" y="380880"/>
            <a:ext cx="33829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0" y="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133360" y="304920"/>
            <a:ext cx="4647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wing of Jean le Meing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057400" y="914400"/>
            <a:ext cx="47624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2437920" y="48006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te arm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ap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28600" y="0"/>
            <a:ext cx="7343640" cy="822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)                                              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685800" y="228600"/>
            <a:ext cx="3286080" cy="4572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5638680" y="228600"/>
            <a:ext cx="307188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knights fi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62120" y="1143000"/>
            <a:ext cx="7467480" cy="5257800"/>
            <a:chOff x="762120" y="1143000"/>
            <a:chExt cx="7467480" cy="5257800"/>
          </a:xfrm>
        </p:grpSpPr>
        <p:pic>
          <p:nvPicPr>
            <p:cNvPr id="61" name="Rectangle 3" descr=""/>
            <p:cNvPicPr/>
            <p:nvPr/>
          </p:nvPicPr>
          <p:blipFill>
            <a:blip r:embed="rId2"/>
            <a:stretch/>
          </p:blipFill>
          <p:spPr>
            <a:xfrm>
              <a:off x="762120" y="1143000"/>
              <a:ext cx="7467480" cy="525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 txBox="1"/>
            <p:nvPr/>
          </p:nvSpPr>
          <p:spPr>
            <a:xfrm>
              <a:off x="762120" y="1143000"/>
              <a:ext cx="7467480" cy="5257800"/>
            </a:xfrm>
            <a:prstGeom prst="rect">
              <a:avLst/>
            </a:prstGeom>
            <a:noFill/>
            <a:ln w="0">
              <a:noFill/>
            </a:ln>
          </p:spPr>
          <p:txBody>
            <a:bodyPr anchor="t">
              <a:normAutofit/>
            </a:bodyPr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Rectangle 3" descr=""/>
          <p:cNvPicPr/>
          <p:nvPr/>
        </p:nvPicPr>
        <p:blipFill>
          <a:blip r:embed="rId2"/>
          <a:stretch/>
        </p:blipFill>
        <p:spPr>
          <a:xfrm>
            <a:off x="1371600" y="0"/>
            <a:ext cx="6781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4T22:57:12Z</dcterms:created>
  <dc:creator>Owner</dc:creator>
  <dc:description/>
  <dc:language>en-US</dc:language>
  <cp:lastModifiedBy>Owner</cp:lastModifiedBy>
  <dcterms:modified xsi:type="dcterms:W3CDTF">2009-10-02T01:55:33Z</dcterms:modified>
  <cp:revision>6</cp:revision>
  <dc:subject/>
  <dc:title>The Stages of Knighthood,  The Code of Chivalry, and Courtly Love</dc:title>
</cp:coreProperties>
</file>