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B1BD-6AEA-4783-97DE-0FEB45A5B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3A77-E920-4EDC-BB30-DF4EB1D2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95E8-1BC8-479F-B658-CF0CD307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5F6D-D59A-43DC-B3FF-143299268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0993-83CC-46A6-9FE0-7A6C6D15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547D-A343-4085-AE34-41C53FFF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341F-C012-4E18-BF1B-FF3720B2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A623-EFA1-4A3B-9FDA-7679A7AF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AAF5-FCDD-4ABB-8ABC-A4D03B28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3C7D-38E2-4D26-B1D5-50EA24E7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F455-91FC-4D7A-A1DC-2BDE70AC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FB5A-3BCA-423D-AB3D-61A4AD5F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9DBB-42C8-4D33-9021-10AB5F710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ges of Knighthood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of Chivalry, and Courtly L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8672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: Sydney Mc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743200" y="1371600"/>
            <a:ext cx="3429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7238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685440"/>
            <a:ext cx="7315200" cy="69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A castle y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A castle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5105520" cy="3459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816520" y="914400"/>
            <a:ext cx="3327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228960" y="151920"/>
            <a:ext cx="80773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0"/>
            <a:ext cx="4495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Squire on ho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Squire being knigh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rcRect l="0" t="24379" r="0" b="0"/>
          <a:stretch/>
        </p:blipFill>
        <p:spPr>
          <a:xfrm>
            <a:off x="4876920" y="1905120"/>
            <a:ext cx="4267080" cy="4800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3382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33360" y="304920"/>
            <a:ext cx="464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 of Jean le Meing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057400" y="914400"/>
            <a:ext cx="4762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437920" y="48006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e arm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p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8600" y="0"/>
            <a:ext cx="7343640" cy="822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                                            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3286080" cy="4572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638680" y="228600"/>
            <a:ext cx="30718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nights f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62120" y="1143000"/>
            <a:ext cx="7467480" cy="5257800"/>
            <a:chOff x="762120" y="1143000"/>
            <a:chExt cx="7467480" cy="5257800"/>
          </a:xfrm>
        </p:grpSpPr>
        <p:pic>
          <p:nvPicPr>
            <p:cNvPr id="61" name="Rectangle 3" descr=""/>
            <p:cNvPicPr/>
            <p:nvPr/>
          </p:nvPicPr>
          <p:blipFill>
            <a:blip r:embed="rId2"/>
            <a:stretch/>
          </p:blipFill>
          <p:spPr>
            <a:xfrm>
              <a:off x="762120" y="1143000"/>
              <a:ext cx="746748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 txBox="1"/>
            <p:nvPr/>
          </p:nvSpPr>
          <p:spPr>
            <a:xfrm>
              <a:off x="762120" y="1143000"/>
              <a:ext cx="7467480" cy="52578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Rectangle 3" descr=""/>
          <p:cNvPicPr/>
          <p:nvPr/>
        </p:nvPicPr>
        <p:blipFill>
          <a:blip r:embed="rId2"/>
          <a:stretch/>
        </p:blipFill>
        <p:spPr>
          <a:xfrm>
            <a:off x="137160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22:57:12Z</dcterms:created>
  <dc:creator>Owner</dc:creator>
  <dc:description/>
  <dc:language>en-US</dc:language>
  <cp:lastModifiedBy>Owner</cp:lastModifiedBy>
  <dcterms:modified xsi:type="dcterms:W3CDTF">2009-10-02T01:55:33Z</dcterms:modified>
  <cp:revision>6</cp:revision>
  <dc:subject/>
  <dc:title>The Stages of Knighthood,  The Code of Chivalry, and Courtly Love</dc:title>
</cp:coreProperties>
</file>