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A90-CCDE-4D07-8ADA-264EB7A2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CF6-B5FA-4641-B3D5-FADC2893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7F1-3EBD-477B-A0D9-32E7EF08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7EA-6461-4EE7-8D48-DC5AF980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1E2-BEFF-4C6C-882C-2AF96011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6EC-4A91-40EA-9B8C-5141549A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5B3-866A-41AB-A395-6E9A8EAB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EF7-9C3E-49D3-9CF6-A0CC8045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4C9-995F-4C24-A864-E12B4C55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FEB-DAEC-4D10-9B98-9890F2D3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5A4-C9AA-4E5D-87C5-5703EFF6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474-71E3-4ECD-B079-80B48F4D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FCC6-AB70-42CA-B5D7-C578D106A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s of Knighthoo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of Chivalry, and Courtly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ydney Mc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73152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castle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cas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5105520" cy="345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16520" y="91440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228960" y="151920"/>
            <a:ext cx="80773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quire o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Squire being kn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24379" r="0" b="0"/>
          <a:stretch/>
        </p:blipFill>
        <p:spPr>
          <a:xfrm>
            <a:off x="4876920" y="1905120"/>
            <a:ext cx="426708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338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3049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of Jean le Mei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37920" y="4800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ar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0"/>
            <a:ext cx="734364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                                          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07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ights 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1143000"/>
            <a:ext cx="7467480" cy="5257800"/>
            <a:chOff x="762120" y="1143000"/>
            <a:chExt cx="7467480" cy="5257800"/>
          </a:xfrm>
        </p:grpSpPr>
        <p:pic>
          <p:nvPicPr>
            <p:cNvPr id="61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143000"/>
              <a:ext cx="746748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762120" y="1143000"/>
              <a:ext cx="746748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13716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57:12Z</dcterms:created>
  <dc:creator>Owner</dc:creator>
  <dc:description/>
  <dc:language>en-US</dc:language>
  <cp:lastModifiedBy>Owner</cp:lastModifiedBy>
  <dcterms:modified xsi:type="dcterms:W3CDTF">2009-10-02T01:55:33Z</dcterms:modified>
  <cp:revision>6</cp:revision>
  <dc:subject/>
  <dc:title>The Stages of Knighthood,  The Code of Chivalry, and Courtly Love</dc:title>
</cp:coreProperties>
</file>