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D86-86EF-4E63-B333-EBEAF8CA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7CF-3530-4AC3-9C18-3CEBCED1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D80-9EA8-42B5-9A7B-AC3EBCDE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EE1-8C81-4432-B649-DF97FD00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05D-DB72-48FB-8587-E92D805D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671-D178-4A32-816A-32533DC2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B90-344C-411E-802B-0FD9A8EB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B75-E735-4172-8A13-F7A3F4F3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1D9-CAAC-4BE5-8484-51C68B3A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C76-9AE9-4B89-BECD-40175460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379-CA35-4CC4-8CDD-48F18A7E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6C7-360B-416E-AD87-E177ED3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CCA6-68E6-4B5C-A953-2928758E9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ges of Knighthoo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of Chivalry, and Courtly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867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Sydney Mc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7315200" cy="69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castle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castl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5105520" cy="345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16520" y="914400"/>
            <a:ext cx="332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228960" y="151920"/>
            <a:ext cx="80773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Squire o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Squire being kn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24379" r="0" b="0"/>
          <a:stretch/>
        </p:blipFill>
        <p:spPr>
          <a:xfrm>
            <a:off x="4876920" y="1905120"/>
            <a:ext cx="426708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3382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30492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of Jean le Mei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437920" y="4800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ar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0"/>
            <a:ext cx="7343640" cy="82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                                          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307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ights f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2120" y="1143000"/>
            <a:ext cx="7467480" cy="5257800"/>
            <a:chOff x="762120" y="1143000"/>
            <a:chExt cx="7467480" cy="5257800"/>
          </a:xfrm>
        </p:grpSpPr>
        <p:pic>
          <p:nvPicPr>
            <p:cNvPr id="61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143000"/>
              <a:ext cx="746748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762120" y="1143000"/>
              <a:ext cx="746748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13716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22:57:12Z</dcterms:created>
  <dc:creator>Owner</dc:creator>
  <dc:description/>
  <dc:language>en-US</dc:language>
  <cp:lastModifiedBy>Owner</cp:lastModifiedBy>
  <dcterms:modified xsi:type="dcterms:W3CDTF">2009-10-02T01:55:33Z</dcterms:modified>
  <cp:revision>6</cp:revision>
  <dc:subject/>
  <dc:title>The Stages of Knighthood,  The Code of Chivalry, and Courtly Love</dc:title>
</cp:coreProperties>
</file>