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3C2-AD19-41D2-B085-D6C78DAE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9AE-E3DA-4D24-A1C3-4CBEBFA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D19-C262-4578-974B-653946DE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00E-9F69-4ED5-909F-6DF1A335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E68-E6D3-4897-954B-7E74C7F8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06A-5A99-4858-A21C-1F548EFF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FA0-64A3-4E3F-8343-EFC1B162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066-65DE-4987-B190-8FDE926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22C-22FF-476A-AA45-B58F1450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2E8-A843-4680-B343-5C2957A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A63-D53F-48CC-8513-F9707C03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DDC-A6F7-4F1D-B1CA-12283D6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54D2-ADB1-4C93-9FB2-D53BF6BA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s of Knighthoo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of Chivalry, and Courtly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ydney Mc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3152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castle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cas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5105520" cy="345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16520" y="914400"/>
            <a:ext cx="332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228960" y="151920"/>
            <a:ext cx="80773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quire o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Squire being kn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24379" r="0" b="0"/>
          <a:stretch/>
        </p:blipFill>
        <p:spPr>
          <a:xfrm>
            <a:off x="4876920" y="1905120"/>
            <a:ext cx="426708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338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3049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of Jean le Mei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437920" y="4800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ar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0"/>
            <a:ext cx="734364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                                         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07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ights 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1143000"/>
            <a:ext cx="7467480" cy="5257800"/>
            <a:chOff x="762120" y="1143000"/>
            <a:chExt cx="7467480" cy="5257800"/>
          </a:xfrm>
        </p:grpSpPr>
        <p:pic>
          <p:nvPicPr>
            <p:cNvPr id="61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143000"/>
              <a:ext cx="746748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62120" y="1143000"/>
              <a:ext cx="746748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3716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57:12Z</dcterms:created>
  <dc:creator>Owner</dc:creator>
  <dc:description/>
  <dc:language>en-US</dc:language>
  <cp:lastModifiedBy>Owner</cp:lastModifiedBy>
  <dcterms:modified xsi:type="dcterms:W3CDTF">2009-10-02T01:55:33Z</dcterms:modified>
  <cp:revision>6</cp:revision>
  <dc:subject/>
  <dc:title>The Stages of Knighthood,  The Code of Chivalry, and Courtly Love</dc:title>
</cp:coreProperties>
</file>