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3C8-AB43-440B-BD3F-EADC2007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603-C7D2-4F00-90C3-15C90BF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43D-003C-4EE5-9A68-E4FCF605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8AE-7775-4EAF-ABB0-91AFFA59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3E9-00BE-45BD-AE5C-2FE7B83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C01-3224-428A-AFCF-144192B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64A-B12A-4464-B6A4-9438E992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F80-3533-463D-B68C-26660A9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1EE-1F5E-4656-9A3A-20C72C6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3C7-9FAB-4644-88EC-B13E1BE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43F-6172-49A0-80F1-C830816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F36-4A17-4A39-8237-E9F0101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3B89-7E7C-41AB-A59B-AB303CC9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djective- lively; animated; gay: a vivacious folk d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Latin vīvāx, vīvāc-, from vīv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6095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had a vivacious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-623880" y="-466560"/>
            <a:ext cx="1039176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greatest-party-scene"/>
          <p:cNvPicPr/>
          <p:nvPr/>
        </p:nvPicPr>
        <p:blipFill>
          <a:blip r:embed="rId1"/>
          <a:stretch/>
        </p:blipFill>
        <p:spPr>
          <a:xfrm>
            <a:off x="2286000" y="685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57200" y="2209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800600" y="5562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04920"/>
            <a:ext cx="46483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b (used with object) 1.to make larger; enlarge in size, number, strength, or extent; increase: His salary is augmented by a small inheritance. 2.Music. a. to raise (the upper note of an interval or chord) by a half step. b. to double the note values of (a theme): In the fugue's development the subject is augmented. 3.Grammar. to add an augment to.4.Heraldry. to grant an augmentation to (a coat of arms).–verb (used without object) 5.to become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Latin augmentum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om augēr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incre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NRA_troops_ready"/>
          <p:cNvPicPr/>
          <p:nvPr/>
        </p:nvPicPr>
        <p:blipFill>
          <a:blip r:embed="rId1"/>
          <a:stretch/>
        </p:blipFill>
        <p:spPr>
          <a:xfrm>
            <a:off x="4724280" y="1600200"/>
            <a:ext cx="4148280" cy="30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5029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emy troops seemed to augment before their 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00800" y="685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44:26Z</dcterms:created>
  <dc:creator>scott</dc:creator>
  <dc:description/>
  <dc:language>en-US</dc:language>
  <cp:lastModifiedBy>GACS</cp:lastModifiedBy>
  <dcterms:modified xsi:type="dcterms:W3CDTF">2010-01-21T18:24:54Z</dcterms:modified>
  <cp:revision>5</cp:revision>
  <dc:subject/>
  <dc:title>Slide 1</dc:title>
</cp:coreProperties>
</file>