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CFD-AC9F-4CE5-96BC-03F181AC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64A-F054-4AD1-8A58-59D478E2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350-F407-4731-B902-3446F533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F0B-44AE-4DC8-BE75-7C484D73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198-A63B-490D-A5B3-5588996A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842-639D-4FDC-9E79-7C9CE0B7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043-C722-440D-8E60-73F512EC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DE7-5ED5-45A6-9E8D-80215441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FBE6-42D1-4753-AD7C-6B709E3B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E281-462D-43CD-AACC-12E3BE7D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C29-A889-4AE0-A50C-FC1844DC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743-63EE-416E-8BA4-9F7C2AA2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4EBA-3D45-4A33-8149-6637CA19B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a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3520" y="533412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djective- lively; animated; gay: a vivacious folk d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Latin vīvāx, vīvāc-, from vīver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5800" y="60958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y had a vivacious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4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6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8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7" descr="greatest-party-scene"/>
          <p:cNvPicPr/>
          <p:nvPr/>
        </p:nvPicPr>
        <p:blipFill>
          <a:blip r:embed="rId1"/>
          <a:stretch/>
        </p:blipFill>
        <p:spPr>
          <a:xfrm>
            <a:off x="2286000" y="68580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8"/>
          <p:cNvSpPr/>
          <p:nvPr/>
        </p:nvSpPr>
        <p:spPr>
          <a:xfrm>
            <a:off x="457200" y="220968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Miracle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4800600" y="55627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28600" y="304920"/>
            <a:ext cx="46483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b (used with object) 1.to make larger; enlarge in size, number, strength, or extent; increase: His salary is augmented by a small inheritance. 2.Music. a. to raise (the upper note of an interval or chord) by a half step. b. to double the note values of (a theme): In the fugue's development the subject is augmented. 3.Grammar. to add an augment to.4.Heraldry. to grant an augmentation to (a coat of arms).–verb (used without object) 5.to become lar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Latin augmentum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n increa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from augēre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o increa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NRA_troops_ready"/>
          <p:cNvPicPr/>
          <p:nvPr/>
        </p:nvPicPr>
        <p:blipFill>
          <a:blip r:embed="rId1"/>
          <a:stretch/>
        </p:blipFill>
        <p:spPr>
          <a:xfrm>
            <a:off x="4724280" y="1600200"/>
            <a:ext cx="4148280" cy="3076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04920" y="50292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emy troops seemed to augment before their e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400800" y="685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1:44:26Z</dcterms:created>
  <dc:creator>scott</dc:creator>
  <dc:description/>
  <dc:language>en-US</dc:language>
  <cp:lastModifiedBy>GACS</cp:lastModifiedBy>
  <dcterms:modified xsi:type="dcterms:W3CDTF">2010-01-21T18:24:54Z</dcterms:modified>
  <cp:revision>5</cp:revision>
  <dc:subject/>
  <dc:title>Slide 1</dc:title>
</cp:coreProperties>
</file>