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4411-4EFB-477C-8CDD-1B78FE932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C76F-0BF3-4F3F-AF56-1EBB4E3E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F7DD-F56E-4FD5-8157-0979849D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FA4F-301C-4DB3-A9EC-2B54BA2CE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DFA-A56F-4FA9-ADE6-290131E2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57A-4BCE-4B90-94B1-18D9FB78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DFA-92F2-4972-B043-582CD137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B22-E12E-4930-A935-308E6B15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D024-7202-40CF-8615-4022452E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D490-AB38-4529-9BC2-F0788DC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3F2C-FE64-4AA5-B220-C9B5B37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4A6F-C054-4F30-9F4B-C9758FC7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D590-82C7-4004-B8F1-D3F9F1E6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EB03-17C0-4C51-882D-C6BB499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446-BE9A-4DF1-8D76-51D7351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5F2-B696-41D4-8D3D-DD8C3075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B6DC-2EDE-4C18-92BF-9BE235A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A09D-7709-4710-BDAA-18FA776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1539-F1EE-4364-80CC-6BF3724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4954-48B0-4C77-97FB-3118CA64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95B2-68F3-42E1-9084-71CA49EC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94F-E05F-4E80-9154-8CCCE3EF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45F-4A8F-4B62-8123-3EFAC51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1DD-13E1-4360-AD06-680132FD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ABF-60FB-4026-9637-8ECFC518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3E6-2FC2-4988-A0BD-82699226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279-F4D0-4836-BEA2-F62E14D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EA9-247D-4782-A21B-E11AEA3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2A7C-EA84-4967-9FF1-AF15A7A93D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92F-31A2-46B3-96F3-FD8D517BB5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 Ter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ce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agg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ggar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adj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a gaunt, wasted, or exhausted appearance, as from prolonged suffering, exertion, or anxiety; w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rench hagar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Old French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 hawk, ra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haps of Germanic ori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ggard woman was overcome with g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rying%2Bwomen%2B_1096_19153054_0_0_7007558_300"/>
          <p:cNvPicPr/>
          <p:nvPr/>
        </p:nvPicPr>
        <p:blipFill>
          <a:blip r:embed="rId1"/>
          <a:stretch/>
        </p:blipFill>
        <p:spPr>
          <a:xfrm>
            <a:off x="2438280" y="1828800"/>
            <a:ext cx="2819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rce or drive, esp. to a cours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iddle English compellen, from Latin compellere : com-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pelle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dr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e pel-5 in Indo-European root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ce is compelled to look fashi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5715000" y="176544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02:06Z</dcterms:created>
  <dc:creator>Pastor</dc:creator>
  <dc:description/>
  <dc:language>en-US</dc:language>
  <cp:lastModifiedBy>Pastor</cp:lastModifiedBy>
  <dcterms:modified xsi:type="dcterms:W3CDTF">2010-01-20T22:54:44Z</dcterms:modified>
  <cp:revision>4</cp:revision>
  <dc:subject/>
  <dc:title>Vocab Terms</dc:title>
</cp:coreProperties>
</file>