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7DE3-3D5B-4B2B-BAB8-E5E780DDA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3C5E-86DA-4F3F-9378-F1A0982C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16A6-8C37-46AB-9397-6B56A251D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2161-C696-4947-913C-C263F6D23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5267-BE41-4359-9DF3-2C06212A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5EAD-8549-49F0-A956-28436381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5BDE-11C9-4E84-8C68-D7028FE8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320B-EE54-4AAB-ADAC-6B5978E9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07A6-E349-4209-996C-468E8A20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72CD-24EE-43CE-A07C-3B8241EE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5980-0C2B-44F7-9895-FA1D3E53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BC7C-D37E-434A-B9FF-C8C4547C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649A-E1D6-421E-A158-54BBC326D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840" y="1095480"/>
            <a:ext cx="883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ircumscribed- verb. </a:t>
            </a:r>
            <a:r>
              <a:rPr b="0" lang="en-US" sz="2400" spc="-1" strike="noStrike">
                <a:solidFill>
                  <a:srgbClr val="333333"/>
                </a:solidFill>
                <a:latin typeface="Arial Black"/>
                <a:ea typeface="Times New Roman"/>
              </a:rPr>
              <a:t>to draw a line around; enci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http://thesaurus.maths.org/mmkb/media/png/Circumcircle.png"/>
          <p:cNvPicPr/>
          <p:nvPr/>
        </p:nvPicPr>
        <p:blipFill>
          <a:blip r:embed="rId1"/>
          <a:stretch/>
        </p:blipFill>
        <p:spPr>
          <a:xfrm>
            <a:off x="1922400" y="1542960"/>
            <a:ext cx="3772080" cy="37720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304920" y="5319360"/>
            <a:ext cx="12368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n geometry class, Mr. Lee asked me to </a:t>
            </a:r>
            <a:r>
              <a:rPr b="1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ircumscrib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the quadrilater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ircum- aroun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cribe- to writ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ed- past t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4495680" y="228600"/>
            <a:ext cx="3657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asaye Wil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990720" y="79596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ubtle- adj.</a:t>
            </a:r>
            <a:r>
              <a:rPr b="0" lang="en-US" sz="2000" spc="-1" strike="noStrike">
                <a:solidFill>
                  <a:srgbClr val="333333"/>
                </a:solidFill>
                <a:latin typeface="Arial Black"/>
                <a:ea typeface="Times New Roman"/>
              </a:rPr>
              <a:t> skillful, clever, or ingen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https://jspivey.wikispaces.com/file/view/painter.jpg/31520547/painter.jpg"/>
          <p:cNvPicPr/>
          <p:nvPr/>
        </p:nvPicPr>
        <p:blipFill>
          <a:blip r:embed="rId1"/>
          <a:stretch/>
        </p:blipFill>
        <p:spPr>
          <a:xfrm>
            <a:off x="1447920" y="1523880"/>
            <a:ext cx="5029200" cy="4067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609480" y="575676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ubtle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painter created a master-pie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898560" y="6208560"/>
            <a:ext cx="72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ub- less than normal; beneath; under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- to do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peated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22:44:41Z</dcterms:created>
  <dc:creator>esg</dc:creator>
  <dc:description/>
  <dc:language>en-US</dc:language>
  <cp:lastModifiedBy>GACS</cp:lastModifiedBy>
  <dcterms:modified xsi:type="dcterms:W3CDTF">2010-01-26T19:50:29Z</dcterms:modified>
  <cp:revision>9</cp:revision>
  <dc:subject/>
  <dc:title>Slide 1</dc:title>
</cp:coreProperties>
</file>