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D29-8F22-4E34-B2C5-D7AE3419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C36-87C7-4E1B-B696-DA59312B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C0C-2B13-458C-AD29-C0719DDB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989-7661-4038-917F-8AC50FEC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582-DD80-4B6D-91B6-7D33F47F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431-DB1B-41B9-8AEF-3F742FB9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AE3-346E-49AF-B3C8-48090655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EA1-9B72-4C2B-A6B7-1267D068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36E-CEF8-4B3E-BC9F-827480B3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8AE-A2AB-4FFE-97C4-D12BE21F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10D-0DB7-4A4E-AB32-CA7E4C61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B2D-D024-4884-B268-58D8D78A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957D-4483-4F52-955C-D095D67E5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840" y="1095480"/>
            <a:ext cx="88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d- verb. </a:t>
            </a:r>
            <a:r>
              <a:rPr b="0" lang="en-US" sz="24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to draw a line around; en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thesaurus.maths.org/mmkb/media/png/Circumcircle.png"/>
          <p:cNvPicPr/>
          <p:nvPr/>
        </p:nvPicPr>
        <p:blipFill>
          <a:blip r:embed="rId1"/>
          <a:stretch/>
        </p:blipFill>
        <p:spPr>
          <a:xfrm>
            <a:off x="192240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04920" y="5319360"/>
            <a:ext cx="1236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geometry class, Mr. Lee asked me to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e quadrilat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- aroun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ribe- to writ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d-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495680" y="2286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asay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90720" y="7959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- adj.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skillful, clever, or ingen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jspivey.wikispaces.com/file/view/painter.jpg/31520547/painter.jpg"/>
          <p:cNvPicPr/>
          <p:nvPr/>
        </p:nvPicPr>
        <p:blipFill>
          <a:blip r:embed="rId1"/>
          <a:stretch/>
        </p:blipFill>
        <p:spPr>
          <a:xfrm>
            <a:off x="1447920" y="1523880"/>
            <a:ext cx="5029200" cy="4067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09480" y="57567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ainter created a master-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98560" y="620856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- less than normal; beneath; und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- to do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2:44:41Z</dcterms:created>
  <dc:creator>esg</dc:creator>
  <dc:description/>
  <dc:language>en-US</dc:language>
  <cp:lastModifiedBy>GACS</cp:lastModifiedBy>
  <dcterms:modified xsi:type="dcterms:W3CDTF">2010-01-26T19:50:29Z</dcterms:modified>
  <cp:revision>9</cp:revision>
  <dc:subject/>
  <dc:title>Slide 1</dc:title>
</cp:coreProperties>
</file>