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DE7-6A17-4018-8C1C-F5A851B2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262-38FD-4CCC-94D7-7EE0D0C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027-1F44-44F7-A7DE-6B145ABE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D84-0A1C-43F3-9BBB-E9A2E846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D21-363F-4EC8-ADFD-BA0958B5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EA4-022D-4FB9-B52E-5255A237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0F8-96A0-4798-B4E3-E129F14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F9B-C6B0-4656-A0F8-9AD6F399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AD9-0FA6-4B30-898F-CAA5BE6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155-9036-422C-9E6A-D7960188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A7F-1ABE-4390-97BB-C42BC7A1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77A-7539-4C04-97D6-F95525FF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73E-B312-456A-8E29-C677CED38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djective- lively; animated; gay: a vivacious folk d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Latin vīvāx, vīvāc-, from vīv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6095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had a vivacious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greatest-party-scene"/>
          <p:cNvPicPr/>
          <p:nvPr/>
        </p:nvPicPr>
        <p:blipFill>
          <a:blip r:embed="rId1"/>
          <a:stretch/>
        </p:blipFill>
        <p:spPr>
          <a:xfrm>
            <a:off x="2286000" y="685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2209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800600" y="5562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04920"/>
            <a:ext cx="4648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b (used with object) 1.to make larger; enlarge in size, number, strength, or extent; increase: His salary is augmented by a small inheritance. 2.Music. a. to raise (the upper note of an interval or chord) by a half step. b. to double the note values of (a theme): In the fugue's development the subject is augmented. 3.Grammar. to add an augment to.4.Heraldry. to grant an augmentation to (a coat of arms).–verb (used without object) 5.to become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Latin augmentum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om augēr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NRA_troops_ready"/>
          <p:cNvPicPr/>
          <p:nvPr/>
        </p:nvPicPr>
        <p:blipFill>
          <a:blip r:embed="rId1"/>
          <a:stretch/>
        </p:blipFill>
        <p:spPr>
          <a:xfrm>
            <a:off x="4724280" y="1600200"/>
            <a:ext cx="4148280" cy="30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emy troops seemed to augment before their 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00800" y="68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44:26Z</dcterms:created>
  <dc:creator>scott</dc:creator>
  <dc:description/>
  <dc:language>en-US</dc:language>
  <cp:lastModifiedBy>GACS</cp:lastModifiedBy>
  <dcterms:modified xsi:type="dcterms:W3CDTF">2010-01-21T18:24:54Z</dcterms:modified>
  <cp:revision>5</cp:revision>
  <dc:subject/>
  <dc:title>Slide 1</dc:title>
</cp:coreProperties>
</file>