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725-D029-4FD6-89F0-7EEABE9D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67F-D285-436D-A297-762AD148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F0F-8B40-4632-AD83-488EC6F3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E63-9261-4882-9F30-F17EA2D6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235-9F9C-4DB5-A3A1-F44B242E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A81-C405-45EB-801A-71D1E9D4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D3B-D208-419F-8495-49440507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2C6-3507-4925-80C9-009550BB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04B-01F2-4E3C-BA38-6AD24622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B31-A1BE-4923-8696-C6D95E04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050-EB59-4569-8DC9-70BC10D8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2E6-D958-4F37-A4E5-493BC416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9D53-318A-4D11-BA4D-0C02C7E4B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53341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djective- lively; animated; gay: a vivacious folk d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Latin vīvāx, vīvāc-, from vīver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5800" y="60958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y had a vivacious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" descr="greatest-party-scene"/>
          <p:cNvPicPr/>
          <p:nvPr/>
        </p:nvPicPr>
        <p:blipFill>
          <a:blip r:embed="rId1"/>
          <a:stretch/>
        </p:blipFill>
        <p:spPr>
          <a:xfrm>
            <a:off x="2286000" y="685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8"/>
          <p:cNvSpPr/>
          <p:nvPr/>
        </p:nvSpPr>
        <p:spPr>
          <a:xfrm>
            <a:off x="457200" y="22096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iracle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800600" y="55627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304920"/>
            <a:ext cx="46483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b (used with object) 1.to make larger; enlarge in size, number, strength, or extent; increase: His salary is augmented by a small inheritance. 2.Music. a. to raise (the upper note of an interval or chord) by a half step. b. to double the note values of (a theme): In the fugue's development the subject is augmented. 3.Grammar. to add an augment to.4.Heraldry. to grant an augmentation to (a coat of arms).–verb (used without object) 5.to become lar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Latin augmentum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om augēre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NRA_troops_ready"/>
          <p:cNvPicPr/>
          <p:nvPr/>
        </p:nvPicPr>
        <p:blipFill>
          <a:blip r:embed="rId1"/>
          <a:stretch/>
        </p:blipFill>
        <p:spPr>
          <a:xfrm>
            <a:off x="4724280" y="1600200"/>
            <a:ext cx="4148280" cy="307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04920" y="5029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emy troops seemed to augment before their 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400800" y="685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44:26Z</dcterms:created>
  <dc:creator>scott</dc:creator>
  <dc:description/>
  <dc:language>en-US</dc:language>
  <cp:lastModifiedBy>GACS</cp:lastModifiedBy>
  <dcterms:modified xsi:type="dcterms:W3CDTF">2010-01-21T18:24:54Z</dcterms:modified>
  <cp:revision>5</cp:revision>
  <dc:subject/>
  <dc:title>Slide 1</dc:title>
</cp:coreProperties>
</file>