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DD77-24D1-4DA0-9428-5810C860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37CF-C041-4A80-877C-5128F140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F33C-CF0C-4576-93F6-0754D064F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4A24-668D-4E88-BFF4-544ADECBA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7E41-0F1D-4DA7-9637-9D68061D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B3A2-AD1C-4939-94C4-D552F4AF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3FA9-1B8C-4B72-9EA2-45201835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14E0-BAA7-4085-A5A8-DBEB786A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0231-B5DD-43DF-9206-6CC84B45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4994-9090-4E51-B353-D4E37B79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55F9-143D-4D13-AFCD-9BDC21D3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4D64-6B12-4989-B02B-83DEAD8B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6155-5DCB-4F53-8AFD-7B1EB2134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04920" y="304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vac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33520" y="533412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djective- lively; animated; gay: a vivacious folk da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Latin vīvāx, vīvāc-, from vīvere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l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85800" y="60958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ty had a vivacious atmosp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8"/>
          <p:cNvSpPr/>
          <p:nvPr/>
        </p:nvSpPr>
        <p:spPr>
          <a:xfrm>
            <a:off x="-623880" y="-466560"/>
            <a:ext cx="10391760" cy="77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0"/>
          <p:cNvSpPr/>
          <p:nvPr/>
        </p:nvSpPr>
        <p:spPr>
          <a:xfrm>
            <a:off x="-623880" y="-466560"/>
            <a:ext cx="10391760" cy="77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2"/>
          <p:cNvSpPr/>
          <p:nvPr/>
        </p:nvSpPr>
        <p:spPr>
          <a:xfrm>
            <a:off x="-623880" y="-466560"/>
            <a:ext cx="10391760" cy="77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4"/>
          <p:cNvSpPr/>
          <p:nvPr/>
        </p:nvSpPr>
        <p:spPr>
          <a:xfrm>
            <a:off x="-623880" y="-466560"/>
            <a:ext cx="10391760" cy="77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6"/>
          <p:cNvSpPr/>
          <p:nvPr/>
        </p:nvSpPr>
        <p:spPr>
          <a:xfrm>
            <a:off x="-623880" y="-466560"/>
            <a:ext cx="10391760" cy="77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8"/>
          <p:cNvSpPr/>
          <p:nvPr/>
        </p:nvSpPr>
        <p:spPr>
          <a:xfrm>
            <a:off x="-623880" y="-466560"/>
            <a:ext cx="10391760" cy="77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7" descr="greatest-party-scene"/>
          <p:cNvPicPr/>
          <p:nvPr/>
        </p:nvPicPr>
        <p:blipFill>
          <a:blip r:embed="rId1"/>
          <a:stretch/>
        </p:blipFill>
        <p:spPr>
          <a:xfrm>
            <a:off x="2286000" y="685800"/>
            <a:ext cx="5867280" cy="44006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8"/>
          <p:cNvSpPr/>
          <p:nvPr/>
        </p:nvSpPr>
        <p:spPr>
          <a:xfrm>
            <a:off x="457200" y="220968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Miracle 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4800600" y="55627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28600" y="304920"/>
            <a:ext cx="464832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b (used with object) 1.to make larger; enlarge in size, number, strength, or extent; increase: His salary is augmented by a small inheritance. 2.Music. a. to raise (the upper note of an interval or chord) by a half step. b. to double the note values of (a theme): In the fugue's development the subject is augmented. 3.Grammar. to add an augment to.4.Heraldry. to grant an augmentation to (a coat of arms).–verb (used without object) 5.to become lar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Latin augmentum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n increa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from augēre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o increa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NRA_troops_ready"/>
          <p:cNvPicPr/>
          <p:nvPr/>
        </p:nvPicPr>
        <p:blipFill>
          <a:blip r:embed="rId1"/>
          <a:stretch/>
        </p:blipFill>
        <p:spPr>
          <a:xfrm>
            <a:off x="4724280" y="1600200"/>
            <a:ext cx="4148280" cy="30765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304920" y="502920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emy troops seemed to augment before their ey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6400800" y="685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1:44:26Z</dcterms:created>
  <dc:creator>scott</dc:creator>
  <dc:description/>
  <dc:language>en-US</dc:language>
  <cp:lastModifiedBy>GACS</cp:lastModifiedBy>
  <dcterms:modified xsi:type="dcterms:W3CDTF">2010-01-21T18:24:54Z</dcterms:modified>
  <cp:revision>5</cp:revision>
  <dc:subject/>
  <dc:title>Slide 1</dc:title>
</cp:coreProperties>
</file>