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341-AFB7-45D9-A902-AD3E3627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6ACD-2E2C-41E8-8E35-12DE7A2E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E2DA-BE6D-40E8-AB50-2651AFFE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16D-EBE0-43E2-85AE-8EBA622B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4DD-7CA5-4DF7-93DD-C23C1986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23F-B54A-47CC-95E4-E7BF9A1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1CA-CD4F-4078-85C5-0C2F199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2AA-8A10-4D60-9371-7AD3169C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F99A-374B-4B18-AC20-C3581C25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96E4-DC21-4E1C-A8EB-510422A9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FE4-0CC9-4D70-9237-0102FEA9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CA18-4504-4FFD-B61A-E9E32F16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9976-115F-47A1-ABFD-E529BC3E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67BD-CC9C-4952-8DF6-DF7CCEA0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6F7-D087-4C1E-974B-BC6941D4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DC1-04D1-4090-80A9-06A75687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2F23-7B6E-4AFE-A164-A8E90FD7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30E5-9B63-4EA5-9EFD-E4A1D4DA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F50-EDB2-48C4-88AC-A73C6C52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CB1B-5332-480F-8924-09B02E3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697-B25A-482E-92AF-BEC572FE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081-2663-4237-AAE0-3B71EEB1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3B4-BEF3-482F-BC3E-BFDE65BA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916-894E-4D30-BD68-3255B155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EAF-904E-438A-A001-A1899F3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AA8-ACD2-4194-B561-1F6BD0DC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695-1D36-4876-B24F-127C762A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7AF-51D0-4420-8115-1106F89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1326-4490-4227-AB60-5A09FD3FCF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AE7-580F-4619-8AD5-593DFE62B0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 Ter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ce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agg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gga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adj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gaunt, wasted, or exhausted appearance, as from prolonged suffering, exertion, or anxiety; w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rench hagar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Old French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 hawk, ra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haps of Germanic ori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ggard woman was overcome with g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rying%2Bwomen%2B_1096_19153054_0_0_7007558_300"/>
          <p:cNvPicPr/>
          <p:nvPr/>
        </p:nvPicPr>
        <p:blipFill>
          <a:blip r:embed="rId1"/>
          <a:stretch/>
        </p:blipFill>
        <p:spPr>
          <a:xfrm>
            <a:off x="2438280" y="182880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rce or drive, esp. to a cours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iddle English compellen, from Latin compellere : com-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pelle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dr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e pel-5 in Indo-European root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ce is compelled to look fashi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02:06Z</dcterms:created>
  <dc:creator>Pastor</dc:creator>
  <dc:description/>
  <dc:language>en-US</dc:language>
  <cp:lastModifiedBy>Pastor</cp:lastModifiedBy>
  <dcterms:modified xsi:type="dcterms:W3CDTF">2010-01-20T22:54:44Z</dcterms:modified>
  <cp:revision>4</cp:revision>
  <dc:subject/>
  <dc:title>Vocab Terms</dc:title>
</cp:coreProperties>
</file>