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0AF8-2DEF-4787-91B8-D164A4C6D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FE61-8DF9-4D09-A8D2-E6EC9DF4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0210-E576-4E68-BFA7-6AE80DD8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0C3-EDD3-4A63-96E6-1D02AD51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9A7-8FB2-4DB4-B26C-4CE18E09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04C-45F8-478A-901F-F78D9943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5C3-864D-45C8-A13C-88067B59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449-D208-41BA-89D0-B3A65707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6F13-1780-4681-83F1-4F3C695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8F2E-2054-4E80-AB44-B11CD1D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BA92-4F7F-4BC5-993B-0B783696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605A-BB59-4F3C-84F0-71FD371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EFFE-8157-4CAA-BC8B-DB86F13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6A6-72CA-40E0-93A5-D2A2E93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B2C9-44D3-4AE1-9CF4-9478AE4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0B5-F9BD-4344-8DD7-AEE9642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2BBB-50E7-4EB0-A687-7C01863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07C-8FEF-4BE2-AFE1-4B5DC41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93B3-6FFB-4BD2-A146-A98EC16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E4E-1839-4BAE-A343-CA50365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CAD9-BF50-4DF3-AC9E-33A48AB7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697-8A6E-4600-BBC2-2AAFF0B7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FAA-7716-4DD5-A205-0358737B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CF6-1923-4063-9AC4-75327707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947-FA71-4955-9F86-0813709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FDD-1DBF-4D3D-B4CA-D7C00979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34A-2AEB-4B8B-9DB4-8A2B59D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FAF-6A55-4772-955E-E3B33031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8177-61A4-4EDF-9908-4CE5E8D6E4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32F-D913-43CC-B2F2-84E4C6F45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 Ter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ce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agg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gga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adj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gaunt, wasted, or exhausted appearance, as from prolonged suffering, exertion, or anxiety; w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rench hagar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Old French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 hawk, ra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haps of Germanic ori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ggard woman was overcome with g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rying%2Bwomen%2B_1096_19153054_0_0_7007558_300"/>
          <p:cNvPicPr/>
          <p:nvPr/>
        </p:nvPicPr>
        <p:blipFill>
          <a:blip r:embed="rId1"/>
          <a:stretch/>
        </p:blipFill>
        <p:spPr>
          <a:xfrm>
            <a:off x="2438280" y="182880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rce or drive, esp. to a cours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iddle English compellen, from Latin compellere : com-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pelle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dr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e pel-5 in Indo-European root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ce is compelled to look fashi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02:06Z</dcterms:created>
  <dc:creator>Pastor</dc:creator>
  <dc:description/>
  <dc:language>en-US</dc:language>
  <cp:lastModifiedBy>Pastor</cp:lastModifiedBy>
  <dcterms:modified xsi:type="dcterms:W3CDTF">2010-01-20T22:54:44Z</dcterms:modified>
  <cp:revision>4</cp:revision>
  <dc:subject/>
  <dc:title>Vocab Terms</dc:title>
</cp:coreProperties>
</file>