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EC9B-A61F-4C05-B638-D74F21430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930C-0AF3-4D52-A160-A07BF62D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A50D-9901-491C-9AB4-6591BCCD9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E3BC-04DD-4FAC-A4B4-12BC35AE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38A-F73A-424A-89DA-ED930FAA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1FF-4834-47BB-8D60-A96F4387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C95-46E2-4197-B3C7-CE203658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FA1-CCA4-4794-819C-04BBD073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58B5-0862-41D5-A094-3116F839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2C8D-8371-4D15-9985-E2CA76C1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590E-BDB2-40B0-9E87-5C1C9B9B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3F7F-BBD6-4FFE-9A4D-9E701BC4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A8AC-685F-4973-BE9B-B8211DB2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DC9B-BAC0-4497-A73C-9FAACB70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9AFD-25C5-4F2C-A39F-02FA0A20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110-A1C6-499E-A15B-90511F47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4D0D-D4E4-4EAA-A29F-7ACB300C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F5EA-0FFF-4354-BDAD-011DC649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9BF3-F6B1-4BCC-B995-BDECDC1C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F781-71D4-4991-82BE-1298084F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A0B0-F637-451E-8BE2-150F87E3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096-FC62-4BDE-8B62-76916009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61B-85B8-48ED-9B3E-706DD4E3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D94-B3C8-44B1-BD1D-E4A9A449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AC9-FDF0-46FD-ACDE-AC1D00AD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2AE-367D-4579-AE0B-B171811B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881-47A4-4047-848E-95739475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D00-CD13-48BB-9C7B-A58EEC3E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3229-ACCD-42A2-9BBB-50EACE706D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6C38-AE4D-463A-9F5D-6C76712350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 Ter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ce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agg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ggar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adj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a gaunt, wasted, or exhausted appearance, as from prolonged suffering, exertion, or anxiety; w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rench hagar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Old French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d hawk, ra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haps of Germanic ori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ggard woman was overcome with gri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rying%2Bwomen%2B_1096_19153054_0_0_7007558_300"/>
          <p:cNvPicPr/>
          <p:nvPr/>
        </p:nvPicPr>
        <p:blipFill>
          <a:blip r:embed="rId1"/>
          <a:stretch/>
        </p:blipFill>
        <p:spPr>
          <a:xfrm>
            <a:off x="2438280" y="1828800"/>
            <a:ext cx="28195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e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orce or drive, esp. to a cours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Middle English compellen, from Latin compellere : com-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peller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 dr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see pel-5 in Indo-European root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ce is compelled to look fashion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6" descr=""/>
          <p:cNvPicPr/>
          <p:nvPr/>
        </p:nvPicPr>
        <p:blipFill>
          <a:blip r:embed="rId1"/>
          <a:stretch/>
        </p:blipFill>
        <p:spPr>
          <a:xfrm>
            <a:off x="5715000" y="1765440"/>
            <a:ext cx="3124080" cy="416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0:02:06Z</dcterms:created>
  <dc:creator>Pastor</dc:creator>
  <dc:description/>
  <dc:language>en-US</dc:language>
  <cp:lastModifiedBy>Pastor</cp:lastModifiedBy>
  <dcterms:modified xsi:type="dcterms:W3CDTF">2010-01-20T22:54:44Z</dcterms:modified>
  <cp:revision>4</cp:revision>
  <dc:subject/>
  <dc:title>Vocab Terms</dc:title>
</cp:coreProperties>
</file>