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66D0-A5B0-44BA-A1DB-852DDC27A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9B3F-D074-4FFF-B9DF-395938C37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62AD-DE77-422E-80F7-0790517E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E149-C6F5-492E-992B-3CCA9E766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617-0069-41FE-8260-6D977913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18D-5B82-455B-B177-039E3E36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CFA-46A3-49E6-BB01-87A61431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02E-C32A-4121-8EE6-FEF41DA8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60DE-CB6D-4797-B2BB-840DE0D0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5C39-8EF8-44D4-9BC1-BA5C59D1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BFB2-8B7B-453E-86D5-70AAB3DE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55B8-DF2D-4097-8048-3114684C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DEB6-17EF-4FDA-8ED1-A9D0E4BC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B52A-A0C1-474C-A5B6-B25D2B71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A182-D44E-4672-BD31-88556F9B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EDF-F0D8-47C6-935B-A309B703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1E19-2D5C-4EDB-A65B-543801BE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B800-50DB-41F0-9FDC-F308447F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BAD7-2EB3-4893-AEF9-65E37343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718E-A9D3-41F3-9E7A-88BCAB99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6C55-FD1E-48DD-B7E7-15F5C2CB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73C-1ED7-4CFF-AF14-73170936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FB7-EC83-4586-B7D2-1812DB9A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314-97A6-4405-9359-9EC0597F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832-D52D-4BAE-973F-DDB6AAEB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5DC-4EB6-4C6B-9DCA-4D60F0D3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E96-ABC3-4C08-924A-DC741B18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7D5-10C5-40B6-B077-667601F5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6430-6BDE-4AED-BF8D-0235AAC916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BFD3-4A1A-4190-95EB-AFC29EEA08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 Ter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ce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agg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ggar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adj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a gaunt, wasted, or exhausted appearance, as from prolonged suffering, exertion, or anxiety; w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rench hagar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om Old French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 hawk, ra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haps of Germanic ori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ggard woman was overcome with gri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rying%2Bwomen%2B_1096_19153054_0_0_7007558_300"/>
          <p:cNvPicPr/>
          <p:nvPr/>
        </p:nvPicPr>
        <p:blipFill>
          <a:blip r:embed="rId1"/>
          <a:stretch/>
        </p:blipFill>
        <p:spPr>
          <a:xfrm>
            <a:off x="2438280" y="1828800"/>
            <a:ext cx="28195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mp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orce or drive, esp. to a cours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iddle English compellen, from Latin compellere : com-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peller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 dr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ee pel-5 in Indo-European root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ce is compelled to look fashion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6" descr=""/>
          <p:cNvPicPr/>
          <p:nvPr/>
        </p:nvPicPr>
        <p:blipFill>
          <a:blip r:embed="rId1"/>
          <a:stretch/>
        </p:blipFill>
        <p:spPr>
          <a:xfrm>
            <a:off x="5715000" y="1765440"/>
            <a:ext cx="3124080" cy="416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0:02:06Z</dcterms:created>
  <dc:creator>Pastor</dc:creator>
  <dc:description/>
  <dc:language>en-US</dc:language>
  <cp:lastModifiedBy>Pastor</cp:lastModifiedBy>
  <dcterms:modified xsi:type="dcterms:W3CDTF">2010-01-20T22:54:44Z</dcterms:modified>
  <cp:revision>4</cp:revision>
  <dc:subject/>
  <dc:title>Vocab Terms</dc:title>
</cp:coreProperties>
</file>