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C11C-E4AF-4BD1-BD97-14E03E3FF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E230-8ADA-469C-937E-2E1E981AF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7CF1-6157-4019-B053-AF9D7BD08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A388-91D9-448A-9EA0-6102955DB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C5CA-60EB-47F1-B0C5-CE2A98336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79C5-8D6A-4A3D-8953-6137B6C2E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2435-E944-4FD0-B18B-999DF4B6A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F299-9237-4716-917F-173E27110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DC52-F5BE-4A80-B5E2-47B3DA341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04FE-C880-435A-A62C-78274CFD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AA95-9D86-4D58-BD8F-6F59DE2CA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E31E-2BE8-4B2A-919B-48B1339BA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3628C-DACD-4159-94FE-416FF9A7CD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312840" y="1095480"/>
            <a:ext cx="883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circumscribed- verb. </a:t>
            </a:r>
            <a:r>
              <a:rPr b="0" lang="en-US" sz="2400" spc="-1" strike="noStrike">
                <a:solidFill>
                  <a:srgbClr val="333333"/>
                </a:solidFill>
                <a:latin typeface="Arial Black"/>
                <a:ea typeface="Times New Roman"/>
              </a:rPr>
              <a:t>to draw a line around; encir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http://thesaurus.maths.org/mmkb/media/png/Circumcircle.png"/>
          <p:cNvPicPr/>
          <p:nvPr/>
        </p:nvPicPr>
        <p:blipFill>
          <a:blip r:embed="rId1"/>
          <a:stretch/>
        </p:blipFill>
        <p:spPr>
          <a:xfrm>
            <a:off x="1922400" y="1542960"/>
            <a:ext cx="3772080" cy="377208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304920" y="5319360"/>
            <a:ext cx="12368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In geometry class, Mr. Lee asked me to </a:t>
            </a:r>
            <a:r>
              <a:rPr b="1" lang="en-U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circumscribe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the quadrilater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circum- around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scribe- to write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ed- past te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4495680" y="228600"/>
            <a:ext cx="3657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Kasaye Wil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Perio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5"/>
          <p:cNvSpPr/>
          <p:nvPr/>
        </p:nvSpPr>
        <p:spPr>
          <a:xfrm>
            <a:off x="990720" y="795960"/>
            <a:ext cx="655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subtle- adj.</a:t>
            </a:r>
            <a:r>
              <a:rPr b="0" lang="en-US" sz="2000" spc="-1" strike="noStrike">
                <a:solidFill>
                  <a:srgbClr val="333333"/>
                </a:solidFill>
                <a:latin typeface="Arial Black"/>
                <a:ea typeface="Times New Roman"/>
              </a:rPr>
              <a:t> skillful, clever, or ingeni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https://jspivey.wikispaces.com/file/view/painter.jpg/31520547/painter.jpg"/>
          <p:cNvPicPr/>
          <p:nvPr/>
        </p:nvPicPr>
        <p:blipFill>
          <a:blip r:embed="rId1"/>
          <a:stretch/>
        </p:blipFill>
        <p:spPr>
          <a:xfrm>
            <a:off x="1447920" y="1523880"/>
            <a:ext cx="5029200" cy="40672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6"/>
          <p:cNvSpPr/>
          <p:nvPr/>
        </p:nvSpPr>
        <p:spPr>
          <a:xfrm>
            <a:off x="609480" y="575676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subtle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painter created a master-pie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898560" y="6208560"/>
            <a:ext cx="725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ub- less than normal; beneath; under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le- to do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epeated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9T22:44:41Z</dcterms:created>
  <dc:creator>esg</dc:creator>
  <dc:description/>
  <dc:language>en-US</dc:language>
  <cp:lastModifiedBy>GACS</cp:lastModifiedBy>
  <dcterms:modified xsi:type="dcterms:W3CDTF">2010-01-26T19:50:29Z</dcterms:modified>
  <cp:revision>9</cp:revision>
  <dc:subject/>
  <dc:title>Slide 1</dc:title>
</cp:coreProperties>
</file>