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8C5-6A03-435E-A25D-C3F64705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1186-2580-4CC2-953D-645BA266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ADC-A9B9-4421-94A3-D061E69B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1B81-779E-4F93-80D6-4F1B9960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68B-753D-49BD-9C68-E7605346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A0C-B295-4826-86B7-C54EA25E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D37-D213-4E6A-8605-DB39E4C2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B55-FD22-48A7-8E40-65070404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4BD-A715-4D26-9B08-1001F68E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ECB-FDF2-4F49-B335-ABEEB2EA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F8DD-DFEC-40B2-BED0-A4F19C80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819-CDF5-4880-A04B-2FAE2219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9DA2-BA5A-45E8-B162-44758F43E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egan M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ll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 Miracle Work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len; adj.- Showing irritation or ill humor by a gloomy silence or reser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l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acher did not appreciate the sarcastic remark concerning his tea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ugna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ve Addition w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gnant; adj- Distasteful, objectionable, or off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ell coming from the old cheese w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pugn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cheese.png image by AccidentalMommy"/>
          <p:cNvPicPr/>
          <p:nvPr/>
        </p:nvPicPr>
        <p:blipFill>
          <a:blip r:embed="rId1"/>
          <a:stretch/>
        </p:blipFill>
        <p:spPr>
          <a:xfrm>
            <a:off x="5106960" y="1600200"/>
            <a:ext cx="3121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23:24:32Z</dcterms:created>
  <dc:creator>Megan Elizabeth Malone</dc:creator>
  <dc:description/>
  <dc:language>en-US</dc:language>
  <cp:lastModifiedBy>Megan Elizabeth Malone</cp:lastModifiedBy>
  <dcterms:modified xsi:type="dcterms:W3CDTF">2010-01-25T22:58:12Z</dcterms:modified>
  <cp:revision>3</cp:revision>
  <dc:subject/>
  <dc:title>Vocabulary</dc:title>
</cp:coreProperties>
</file>