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194-C189-4B63-BC1A-C4E9FDC7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FD0-8C04-4DD7-91A6-0132B1D7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202-D62E-4CD0-83F8-0C7551F4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D3A-E8E3-4833-B935-2999B975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E7A-021A-4C41-9874-2E7AC5A8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258-FCBD-481A-95F3-3392EC53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E0B5-A7FE-44A8-9C42-391136F1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CE7-78B4-47CD-B894-3BCF5780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887-5A9B-49DF-9D3C-0627D0AF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C7A-5891-4564-A588-D0408FB9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1E3-2C81-4DBF-9430-45253572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B2F-F261-46CF-94C7-22692873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3691-4525-4F0F-911F-2B16B2774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egan M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ll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 Miracle Work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len; adj.- Showing irritation or ill humor by a gloomy silence or reser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l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acher did not appreciate the sarcastic remark concerning his te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ugna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ve Addition w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gnant; adj- Distasteful, objectionable, or off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ell coming from the old cheese w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ugn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cheese.png image by AccidentalMommy"/>
          <p:cNvPicPr/>
          <p:nvPr/>
        </p:nvPicPr>
        <p:blipFill>
          <a:blip r:embed="rId1"/>
          <a:stretch/>
        </p:blipFill>
        <p:spPr>
          <a:xfrm>
            <a:off x="5106960" y="1600200"/>
            <a:ext cx="3121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3:24:32Z</dcterms:created>
  <dc:creator>Megan Elizabeth Malone</dc:creator>
  <dc:description/>
  <dc:language>en-US</dc:language>
  <cp:lastModifiedBy>Megan Elizabeth Malone</cp:lastModifiedBy>
  <dcterms:modified xsi:type="dcterms:W3CDTF">2010-01-25T22:58:12Z</dcterms:modified>
  <cp:revision>3</cp:revision>
  <dc:subject/>
  <dc:title>Vocabulary</dc:title>
</cp:coreProperties>
</file>