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829-6BB9-4BB2-A86D-121F9F5F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B5F-F4EC-480B-8CFD-6251FDAB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10F-ACEC-40DE-85CE-3D5C4BF3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B21-C73C-4DCC-9507-5C22609A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6D3-7926-4D86-8582-C222B90E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0D0-8E95-4162-9B94-F960881B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CC2-A863-44EA-837B-1AC9AE79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C20-04A0-4BB3-BB98-8F59DE40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25E-6CA8-4210-A883-386B2B63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36B-FD89-495B-A4CC-B732303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1E9-CCB7-4647-81AC-9C14ED6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63A-7917-4FAE-A3FA-2A8DF99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E1B3-C431-45FB-84AB-DED5BAF9A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gan M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l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Miracle Work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len; adj.- Showing irritation or ill humor by a gloomy silence or reser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l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cher did not appreciate the sarcastic remark concerning his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gna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ve Addition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gnant; adj- Distasteful, objectionable, or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ell coming from the old cheese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ug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heese.png image by AccidentalMommy"/>
          <p:cNvPicPr/>
          <p:nvPr/>
        </p:nvPicPr>
        <p:blipFill>
          <a:blip r:embed="rId1"/>
          <a:stretch/>
        </p:blipFill>
        <p:spPr>
          <a:xfrm>
            <a:off x="5106960" y="1600200"/>
            <a:ext cx="312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3:24:32Z</dcterms:created>
  <dc:creator>Megan Elizabeth Malone</dc:creator>
  <dc:description/>
  <dc:language>en-US</dc:language>
  <cp:lastModifiedBy>Megan Elizabeth Malone</cp:lastModifiedBy>
  <dcterms:modified xsi:type="dcterms:W3CDTF">2010-01-25T22:58:12Z</dcterms:modified>
  <cp:revision>3</cp:revision>
  <dc:subject/>
  <dc:title>Vocabulary</dc:title>
</cp:coreProperties>
</file>