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B20-2BDD-43A9-8256-3A736805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065-6DC7-44D4-8173-0BC0499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BF3-619B-47FD-866B-429E7A43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BE6-0656-404F-A0B8-B78602DC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9E3-C8C9-40CB-9B7D-B88AA56E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769-C690-407D-9D48-243628B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547-CCD2-465D-9FB2-0E2EA823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8B8-E13B-4763-B2C9-E11E7B2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8C-29D8-4063-8D58-D14BB52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8D9-56AD-43AB-847A-6329702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EF9-4226-4AD4-972C-8689E4E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3CF-7A0A-44FF-9121-086577F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B3E-1720-4050-8D32-563475B9E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M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l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en; adj.- Showing irritation or ill humor by a gloomy silence or rese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er did not appreciate the sarcastic remark concerning his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gna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ve Addition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; adj- Distasteful, objectionable, or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ell coming from the old cheese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g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eese.png image by AccidentalMommy"/>
          <p:cNvPicPr/>
          <p:nvPr/>
        </p:nvPicPr>
        <p:blipFill>
          <a:blip r:embed="rId1"/>
          <a:stretch/>
        </p:blipFill>
        <p:spPr>
          <a:xfrm>
            <a:off x="5106960" y="1600200"/>
            <a:ext cx="312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3:24:32Z</dcterms:created>
  <dc:creator>Megan Elizabeth Malone</dc:creator>
  <dc:description/>
  <dc:language>en-US</dc:language>
  <cp:lastModifiedBy>Megan Elizabeth Malone</cp:lastModifiedBy>
  <dcterms:modified xsi:type="dcterms:W3CDTF">2010-01-25T22:58:12Z</dcterms:modified>
  <cp:revision>3</cp:revision>
  <dc:subject/>
  <dc:title>Vocabulary</dc:title>
</cp:coreProperties>
</file>