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F148-838D-4196-91AA-2EAFE530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36AD-9B72-4572-9044-134814B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3A7B-FC63-43CE-9CF7-41E1A8AA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8BB8-42DA-4F74-B39B-90A03C52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A8FD-F918-4C38-A153-8BEB08F2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654C-3601-4D39-89AF-87B08E6A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F23F-7BAE-4A1D-8564-DED038E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B400-1D29-441B-AC07-96352E2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83A7-DB88-4517-ACE9-77112428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BADB-54ED-4453-8B60-D6E635FB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16ED-9513-4E79-9BD9-8E9D8714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3DA0-E493-4499-B51F-CCADBFF6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DDE8-36B1-4A19-92B9-DD38AE6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1B66-BBB1-421A-8094-62990D3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F1F6-D214-4568-A424-A5604053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69C5-C7C4-4133-9CB4-EFE9426C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C801-9591-447F-B28A-ACD4118E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4EEE-BDC0-4C1D-BA82-6DCFD2C8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7778-1E0D-4DC1-8A24-6471B922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58F8-13C1-49F5-8747-467C84E2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75C9-9072-46C0-A7BB-B5B9D3FE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B2EA-38D8-4392-B5F6-BC4391EB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2D1D-3051-4F9F-9EDE-23D90E2D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A6C1-7FD4-45D7-B5EF-7128D299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5DDF-AEDB-46A6-AA67-B593A37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04DC-D912-473C-995B-671FEA3A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86EE-2247-4CB6-97EE-ACB354CF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6123-EEF7-42F8-9B1D-B841E593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E654-21B8-42D7-A6AA-347B8E72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C8BD-24F4-4647-9836-CF4D0D5A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5539-4029-4AF4-8E36-09B1CBE5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7999-9AAE-49B0-8A17-D0ADA356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66D4-2605-4345-8A5D-45195A8C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9763-454A-44B1-B1FA-26F68AE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85D8-1841-4AD9-82BB-025EF81E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083CC-0E1B-45D6-BBAF-F90DF6CE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EBA4-D36B-4056-BFBB-AADF96F4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602FD-0A1B-4C23-ABED-CBC346D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FB15C-C220-48DB-917E-08B7FED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CAE5-8724-4828-BB13-F533903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A9588-63D6-457E-9C62-BAF5DDF2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F5602-BE98-4672-B244-16D1951C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AAE7-7237-4F27-9C99-3DDF498B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EA49-1F51-422A-B6CC-864628E8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C641-0533-4D0A-819A-9BB8429D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AD8F4-E098-478A-9002-4DB7AAA5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B148-BF03-4A22-A6A7-011D8480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B38D0-A06C-453F-9795-870245F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2AB5A-190A-4833-8FE1-0B4BF445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5726-1B11-4ABA-A6E1-A89D92C8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45A0-F9F8-45DD-A96C-939A74D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8103B-C5A1-497B-9E40-DAAC4B4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0DD1-D41E-486C-B200-0D143539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51DE-B9BD-4D89-84C0-AC8ED2A1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E4DF-D53D-4E94-8717-FF650939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D8D4-6EEC-484D-8CA3-04BD600F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26C04-24C7-44CC-A965-15B3B4CA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DAA6B-CED9-4D3C-94EE-785BE356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A795-C4A3-4470-942E-0E1C9AC4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CBDD-F1F0-4BB8-98F1-D4948D3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065CB-DBE0-4A09-A1D8-BD4CA42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97D5-17EC-4CAB-9C34-0FDCEBC9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9BA91-A981-4F20-AF31-576C0F86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C543A-52DA-4B2E-AF72-B50F4EA4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4FD3-DD7E-4F38-B8B4-1A9DC50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3F3C-EE09-44FF-975B-A00188D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B4E1-ACE6-4459-B94E-EBE4F3FE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71C24-50D4-4630-81B1-4DEA96DD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C3DD-048D-4C98-AD5E-985DC273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646FC-2213-488F-AC66-FDFB8973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E4D2-B46B-4393-9CFA-B95277C8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03C0-1379-4D1A-A742-7989D9A4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DCCE-5BA7-40D4-8C09-B81A4FE91C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2DBD-D23B-4D18-B11C-5718B91D94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6E97-B97E-4888-8BD4-F0A9C7D87E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ECD-CC6C-4496-8644-04102629E3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92AA-C9F2-4799-BAA8-4FBDD04585F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E2B8-1BE8-4F8A-9AA1-65BC0276C3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ahoma"/>
              </a:rPr>
              <a:t>Medieval Weapons and War Tac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stin Go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-4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2093760" cy="21337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6668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urprise was cru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pies may have been reporting information for weeks or even months before the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osition was also cru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f a force was positioned on a hill, then the enemy would have to attack up a slo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f a force was positioned in a wooded area, they might be able to hide troops until the troops were requir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before a battle, opposing armies might camp quite close to each o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vices known as caltrops were spread over the ground the enemy would charge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altrops were made of metal and had four sharp, pointed prongs sticking out in different direc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se devices would be thrown down and could cause injury if trampled over by a man or hor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574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bles would meet to discuss thei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le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lso, before a battle, a commander might send his herald, or messenger, to the enemy camp to offer peace te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ight before battle, if there was time, a priest would say prayers and troops would cross themsel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 king or commanding noble would also give an inspiring speech before the soldiers go off to batt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3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tics During Ba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actics were often influenc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en of the same r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ght one an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knights would fight o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and foot soldi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uld fight one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ending the standard, or flag, was importa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standard was a rallying point for tr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 lose the standard was a disgrace and would indicate that the enemy was win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429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victorious foot soldiers would kill enemy troops lying on the ground  injured or dy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heir own injured would be carried off on shields used as stretch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knights captured by their enemies spent months or even years in prison until their families paid for their releas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prisoners of war were treated with civi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7384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ibliograph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Book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ltzer, Milton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Weapons and Warf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New York, NY: HarperCollins Publishers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Book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lliam, Paul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edieval Weapons and Warf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First. new York, NY: The Rosen Publishing Group, Inc., 20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nternet Source 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Battlefield: Tactics and Weapo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ld Er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Ed. Jeremiah Hackett. Vol. 4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dieval Europe, 814-135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Detroit: Gale Group, 2002. p209-2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nternet Source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njamin, Garfield. "Threat of Medieval Siege Weapons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edieval Enthusiasts #1 Resource for Medieval Warfar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2004. 4 Nov 2008 &lt;http://www.medieval-castle-siege-weapons.com/medieval-siege-weapons.html&gt;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b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d by a single sol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ow rate of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or is vulner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b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iginally a hunting weap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x feet in leng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ater fire than the crossbow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p to six arrows per minu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or is also vulnerable to enemy atta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2286000" cy="15811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1905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highly symbol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made holy by the chur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“swords of war”- swords with blad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5 inches or long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sed by knights on horseb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nobleman, officers of state, and members of important guilds had swords of greater length carried in front of them. This was a sign of their high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695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used to smash a knight’s arm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 hit to the head- the victim is stunned or kil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imple mace- could be made by driving nails into a clu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his cheap weapon becam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r among the peasa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Euro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350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Kn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ivilians carried a knife everywhe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went, even wom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if you ate somewhere outside yo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me, your were expected to bring your own knif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violence was the accepted method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ing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people took insults to their honor 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if there was a dispute, out came the knife to stab</a:t>
            </a: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755720" cy="28195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6840360" y="4114800"/>
            <a:ext cx="2154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iege 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buch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sed commonly when laying siege on a cast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uld destroy a castle and castle breach was almost assur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limited ways of countering th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p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launches objects that wou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etrate and shatt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le wall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iege 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l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in laying siege on a cas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fort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ends forth a sp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uld cause the scattering of for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ide and outside the cas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is made a breach of t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le even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987880" y="1905120"/>
            <a:ext cx="30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Sold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uring the fourteenth century, foot soldiers and archers greatly outnumbered knigh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arried sword and dag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ffective weapon was know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he pike, poleaxe, 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alber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is was a weapon made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bin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pear and ax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6019920" y="228600"/>
            <a:ext cx="2895480" cy="18622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knights feared archers m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longbow was the deadly weap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hers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t short range this bow and arrow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ld penetrate plate arm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rrows were carried in a quiver on the hi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f knights charged, archers behind a protective shield, would wait until knights were in ran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388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1:56:01Z</dcterms:created>
  <dc:creator>ben golden</dc:creator>
  <dc:description/>
  <dc:language>en-US</dc:language>
  <cp:lastModifiedBy>ben golden</cp:lastModifiedBy>
  <dcterms:modified xsi:type="dcterms:W3CDTF">2008-11-13T01:52:01Z</dcterms:modified>
  <cp:revision>19</cp:revision>
  <dc:subject/>
  <dc:title>Medieval Weapons and War Tac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