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05BC-A622-42C6-A487-A3FA506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3C1D-8AC6-417B-8505-36502D7C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61C1-44BC-40A7-AF96-0C3632A4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3640-54EA-4301-B278-6C11B08C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145D-C319-48B8-A158-1629051F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CD73-B317-420B-B8F7-76E5AA1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B786-606E-4864-A054-41F3132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EAA-9460-4672-A9FD-4ABAAED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6373-9014-4735-A177-72879E2D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DE97-D40E-4197-AD18-525824E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BA78-FAF8-4B5F-89A3-8758125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2225-B8D8-42D4-B186-8E174CD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B77-403A-4A23-BBBB-F1E6624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F621-E4CC-470D-9AD4-205F14F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D95-CAD2-473A-B2D1-0F6FA02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F3EC-C26B-491B-8CDC-E4F371C4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DC30-1936-4B3A-958E-D80E8040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9D3E-AD2B-4D24-8B46-10197D02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8B77-BB1F-447D-9293-453FA5E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DD6E-222B-4AD3-8DED-F807E8B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53CF-86F8-42B1-B0E7-325BAAD4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15EF-AD51-4034-912C-7535B3DB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3999-4E73-4C80-9D88-A85004A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F450-011D-4C00-AA17-933D9CB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9C8C-8503-478D-AA54-DC044B0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EE64-1F5F-40AE-ADDA-06C2A88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53C-0604-4D9C-8D4C-EB85D19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7213-47FC-4FA2-A24B-645686F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ACDF-8C50-47E2-852F-EF5A4274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AA40-FB6E-4208-A765-7159E49D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2660-2D79-4B64-B256-2B2CC173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06E7-8AAA-46A4-9A8C-25D6A93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51F1-B17D-4F48-BA9E-CB29F5C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65C9-2CD5-4AA5-9609-5844CCD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8192-CA45-4AAA-89A9-F5698EF0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BE7B-A220-426E-8264-CEAE560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9EF5-ADD2-46A5-AF1D-A3FA03B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4C71-B09E-4C44-8095-F2B5B1E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9662-A8C9-49CF-9CC9-8CEA6D8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6FE9-72CE-4A1F-9946-C4646EE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2F6C-B82E-4CD5-A754-25EF62A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B939-AE3C-44EC-93BE-8A9D0CB5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9AF2-5FF2-48B8-9D06-269246F4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86AD-09E7-4B18-9348-308DFB47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88D5-51D2-4EA6-B242-F330502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47F5-613E-44F0-8D1E-B4224EC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8930-FA6D-44ED-AA67-E2BE593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5CD4-6125-47CD-90FF-0704FC6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1359-E5C3-4C70-A68B-5E58D2E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B3AD-08CC-417A-A956-B7E6D75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F9ED-D54E-46CD-9300-C2D1863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8A49-363A-49A8-BBB9-5EBF283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5B2B-720C-4D87-BC51-CC9E040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0CCF-A931-49FE-A3C9-0CA0EEEC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80017-67DB-4409-8785-085C9547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1A67-BD00-4CB9-8EA0-0C65F6D0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93CC-E20E-4911-A7EC-FA749D8B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8CF8-A5E3-4E1E-836A-78310153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ED7D-4AC1-4629-B2FB-F17F916B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F1B0-0AE0-443A-BD3B-68902EB4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F59F-7071-46E1-85D4-4B92073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94C8-5857-4169-9EB0-17E553A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4141-A625-47BE-A800-494F635C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BEDC-D9B1-4ED6-BF1F-5910126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F1E6-A196-474F-A92A-5589B25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7FE7-E7C6-451D-80BC-E0AB5C3B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3671-71B5-4637-9649-8530ECB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B940-D4D5-42B9-BE62-B48D518E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E75C-9362-432F-BF48-4485F29B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F83B-0DFC-4B77-ADC1-B86B0960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AC21-8BA4-4E47-A6D3-4813CB7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EDC3-BF8A-42E6-8B6C-5ED4608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FEAE-0142-47F9-9C39-5D920307FE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710-E2B7-4B32-80A3-4AFC51E9A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241-0742-4F00-8EE4-2AFF1D95B9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4A76-213D-4CD6-9EB1-6F6033D64A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09B-0D81-4D01-9B60-801879E366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B4F-4E3B-4FAC-861D-B5D38FB951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Medieval Weapons and War Tac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in Go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-4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6668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urprise was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pies may have been reporting information for weeks or even months before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osition was also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on a hill, then the enemy would have to attack up a sl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in a wooded area, they might be able to hide troops until the troops were requir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before a battle, opposing armies might camp quite close to each o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vices known as caltrops were spread over the ground the enemy would charg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ltrops were made of metal and had four sharp, pointed prongs sticking out in different dir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se devices would be thrown down and could cause injury if trampled over by a man or hor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bles would meet to discuss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le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lso, before a battle, a commander might send his herald, or messenger, to the enemy camp to offer peace te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ight before battle, if there was time, a priest would say prayers and troops would cross themsel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king or commanding noble would also give an inspiring speech before the soldiers go off to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3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 During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actics were often influenc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n of the same r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one an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would fight o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and foot soldi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fight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ending the standard, or flag, wa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standard was a rallying point for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 lose the standard was a disgrace and would indicate that the enemy was wi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429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victorious foot soldiers would kill enemy troops lying on the ground  injured or dy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ir own injured would be carried off on shields used as stretch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knights captured by their enemies spent months or even years in prison until their families paid for their releas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prisoners of war were treated with civ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7384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ibliograph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ltzer, Milton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New York, NY: HarperCollins Publishers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lliam, Paul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dieval 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irst. new York, NY: The Rosen Publishing Group, Inc., 20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Battlefield: Tactics and Weap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ld Er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Ed. Jeremiah Hackett. Vol. 4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dieval Europe, 814-13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Detroit: Gale Group, 2002. p209-2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njamin, Garfield. "Threat of Medieval Siege Weapons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edieval Enthusiasts #1 Resource for Medieval Warfar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2004. 4 Nov 2008 &lt;http://www.medieval-castle-siege-weapons.com/medieval-siege-weapons.html&gt;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d by a single sol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ow rate of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vulner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ly a hunting we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x feet in leng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fire than the crossb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 to six arrows per minu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also vulnerable to enemy att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ighly symbol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ade holy by the chur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“swords of war”- swords with blad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 inches or long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by knights on horse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nobleman, officers of state, and members of important guilds had swords of greater length carried in front of them. This was a sign of their high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695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used to smash a knight’s arm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 hit to the head- the victim is stunned or ki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imple mace- could be made by driving nails into a clu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is cheap weapon beca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mong the peasa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Euro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Kn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vilians carried a knife everywhe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went, even wo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you ate somewhere outside y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me, your were expected to bring your own knif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violence was the accepted method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ing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eople took insults to their honor 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there was a dispute, out came the knife to stab</a:t>
            </a: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755720" cy="28195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6840360" y="4114800"/>
            <a:ext cx="2154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buc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commonly when laying siege on a cas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destroy a castle and castle breach was almost assur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imited ways of countering th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aunches objects that wou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etrate and shat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wal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laying siege on a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fort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nds forth a sp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cause the scattering of for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ide and outside the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is made a breach of t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even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987880" y="19051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uring the fourteenth century, foot soldiers and archers greatly outnumbered kni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arried sword and dag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ffective weapon was kn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ike, poleaxe,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alber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was a weapon made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bin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ar and ax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895480" cy="1862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feared archers m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ongbow was the deadly weap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er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t short range this bow and arrow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penetrate plate arm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rrows were carried in a quiver on the 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f knights charged, archers behind a protective shield, would wait until knights were in ran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88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1:56:01Z</dcterms:created>
  <dc:creator>ben golden</dc:creator>
  <dc:description/>
  <dc:language>en-US</dc:language>
  <cp:lastModifiedBy>ben golden</cp:lastModifiedBy>
  <dcterms:modified xsi:type="dcterms:W3CDTF">2008-11-13T01:52:01Z</dcterms:modified>
  <cp:revision>19</cp:revision>
  <dc:subject/>
  <dc:title>Medieval Weapons and War Tac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