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5519-4ED6-4E92-AF0E-3E7C8479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BF35-0E81-46EF-85D4-C7958C4C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1083-7B32-487E-A77A-112754D2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4A10-CD10-41B9-8E6C-9CC8509F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5F98-8425-4FB5-84D8-3CB875D0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713D-E635-4E31-995F-9D9C9072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80F-121D-4169-AAE5-A9636AF6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7CA7-C922-4B6F-ACB6-A392698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621F-8497-4B5D-A418-5EDA1B0F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EA3F-7E42-4675-9CC9-58ADB906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744E-95BA-401F-8E23-A841FD8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96C2-8AD8-409A-AE34-0E7FD87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6810-A06A-4153-8CCA-55F5BD8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5D4-9EB1-4F9D-B817-0C32526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D242-34B8-4469-94D6-201D7495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E43D-76CC-42B6-AE9C-524D987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2F2D-F7AB-4A32-A627-13258AF0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180E-162A-4937-B596-DD4BF1AA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AF90-410D-4819-AB36-1C13CE4C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9761-FB92-42C0-A7A9-626F388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3768-BB7C-4773-8281-3C5029DB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D868-E9DE-451C-86C2-8842ED9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AAFB-C1B5-4697-B990-E2083EF8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B61D-BC0E-4558-9277-2BD4BA8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3941-4934-4F4C-AE1C-7E874A2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7A44-58C3-41D0-9A3C-DABBF35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40B8-17CD-4ED6-B724-A88B6D0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8FE3-09EB-4E15-AC14-40CAAAC2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F50F-6135-4B7D-9F20-1B3FF5CA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8F75-F851-4F12-BA8B-6BAD63F8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A90F-DBB2-4C4F-9872-76DCA166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FEF2-5C30-4E53-BB8E-2A0655D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E3D6-0B4F-4E13-AC76-F852779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A038-6483-4678-AC57-EA79894D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AC26-F57A-44A3-87F7-67D15C5C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720D-079D-467E-A31C-CF894310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23A2-1071-4F2C-BAAC-A531DDC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328A-CA0F-49EF-A8B6-240F7FC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42FC3-208A-417F-A400-AA3B630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C344-8480-4EB7-9E3D-13CD7957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2507-93A5-4DFB-91C4-ED58DDD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906A-7003-407C-8684-38ECECC2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1693-0C17-47A4-9597-1E38CE62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D280-DEA9-4EEE-996A-A63AD24B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6139-C1BD-460F-A1DD-FDAA43F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3B26-030F-4480-96E7-D04E5333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466F-E9D1-412E-9CF9-98F9BDCC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7678-526E-47C5-9AF9-FAD43EA9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B1F19-A565-4DBD-B8DC-D6EC7BFD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3564-B438-44CB-BFA1-B832F654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BB16-2C89-4D05-B5B5-82E37811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D793-9C75-4702-AF5A-7036297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B410-7C98-4FDB-A33B-781CFD8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A3C7-2039-49B6-BBAA-B709C68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76AC-FC66-4762-9059-F7965581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B907-6F32-4960-85E1-8CFEB26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7664-CDC7-4635-9627-64DBD85F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7D3A-0C3C-4CC6-94CF-6E578EFE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8424-2BEF-4F8B-952E-E6782141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A693-D6AE-438B-9B29-12CCCBA6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2BE1-743C-44B5-AA44-46EBCE8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DF7E-3A47-491B-9F03-BA55F947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3551-22AD-479F-8A49-6260662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1B9D-1C7C-486C-9A21-18A0D1C9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3C93-DF35-4736-BB3C-9E73D46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3BE11-3835-42BD-9052-BD5A3A9D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63BD-BE29-478A-9B7C-BA0FAA0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F0D8-4653-4D92-B861-3EEE5A4A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9874B-3E5D-4A15-83C3-69C1BE49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3C9B-432C-40C2-8577-DB030984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DE23-5038-40B6-BF22-832F796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94A8-8839-4018-A6AE-678C3A1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9CB1-2742-49AF-8E48-E1B3B43A0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8938-52EE-4A6F-825F-83F242411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B46F-9A8F-4BCD-B220-D29226776A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008B-88CC-47C9-B226-0553D1966B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15D-9995-4482-9B89-A051243A12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E964-3905-42A0-848E-399D401070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ahoma"/>
              </a:rPr>
              <a:t>Medieval Weapons and War Tac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in Go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-4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093760" cy="2133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6668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urprise was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pies may have been reporting information for weeks or even months before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osition was also cru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on a hill, then the enemy would have to attack up a sl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f a force was positioned in a wooded area, they might be able to hide troops until the troops were requir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before a battle, opposing armies might camp quite close to each o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vices known as caltrops were spread over the ground the enemy would charg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altrops were made of metal and had four sharp, pointed prongs sticking out in different dire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se devices would be thrown down and could cause injury if trampled over by a man or hor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574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bles would meet to discuss thei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le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lso, before a battle, a commander might send his herald, or messenger, to the enemy camp to offer peace te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ight before battle, if there was time, a priest would say prayers and troops would cross themsel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 king or commanding noble would also give an inspiring speech before the soldiers go off to bat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3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tics During B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actics were often influenc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en of the same r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one an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would fight o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and foot soldi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uld fight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ending the standard, or flag, was importa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standard was a rallying point for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 lose the standard was a disgrace and would indicate that the enemy was win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429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 Ba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victorious foot soldiers would kill enemy troops lying on the ground  injured or dy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eir own injured would be carried off on shields used as stretch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knights captured by their enemies spent months or even years in prison until their families paid for their releas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prisoners of war were treated with civ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7384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ibliograph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ltzer, Milton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New York, NY: HarperCollins Publishers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Book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lliam, Paul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dieval Weapons and Warf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First. new York, NY: The Rosen Publishing Group, Inc., 20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Battlefield: Tactics and Weap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ld Er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Ed. Jeremiah Hackett. Vol. 4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dieval Europe, 814-135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Detroit: Gale Group, 2002. p209-2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nternet Source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njamin, Garfield. "Threat of Medieval Siege Weapons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edieval Enthusiasts #1 Resource for Medieval Warfar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2004. 4 Nov 2008 &lt;http://www.medieval-castle-siege-weapons.com/medieval-siege-weapons.html&gt;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d by a single sol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ow rate of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vulner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b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iginally a hunting weap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x feet in leng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ater fire than the crossbo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p to six arrows per minu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or is also vulnerable to enemy att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286000" cy="15811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1905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highly symbol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made holy by the chur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“swords of war”- swords with blad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5 inches or long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by knights on horse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nobleman, officers of state, and members of important guilds had swords of greater length carried in front of them. This was a sign of their high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695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used to smash a knight’s arm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 hit to the head- the victim is stunned or kil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imple mace- could be made by driving nails into a clu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his cheap weapon beca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r among the peasa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Euro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50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Kn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ivilians carried a knife everywhe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went, even wom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you ate somewhere outside y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me, your were expected to bring your own knif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violence was the accepted method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ing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eople took insults to their honor 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if there was a dispute, out came the knife to stab</a:t>
            </a: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755720" cy="28195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6840360" y="4114800"/>
            <a:ext cx="2154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buc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used commonly when laying siege on a cast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destroy a castle and castle breach was almost assur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imited ways of countering th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p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launches objects that wou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etrate and shat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wall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Siege Weap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l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laying siege on a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fort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sends forth a sp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uld cause the scattering of for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ide and outside the cas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is made a breach of t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le even eas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987880" y="1905120"/>
            <a:ext cx="30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uring the fourteenth century, foot soldiers and archers greatly outnumbered knigh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arried sword and dag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ffective weapon was kno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pike, poleaxe,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alber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is was a weapon made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bin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ar and ax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895480" cy="18622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War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knights feared archers m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longbow was the deadly weap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her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t short range this bow and arrow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penetrate plate arm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rrows were carried in a quiver on the hi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f knights charged, archers behind a protective shield, would wait until knights were in ran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88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1:56:01Z</dcterms:created>
  <dc:creator>ben golden</dc:creator>
  <dc:description/>
  <dc:language>en-US</dc:language>
  <cp:lastModifiedBy>ben golden</cp:lastModifiedBy>
  <dcterms:modified xsi:type="dcterms:W3CDTF">2008-11-13T01:52:01Z</dcterms:modified>
  <cp:revision>19</cp:revision>
  <dc:subject/>
  <dc:title>Medieval Weapons and War Tac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