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18.wmf" ContentType="image/x-wmf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BD2B3-F3BF-49F8-93B4-C4A6FE9D7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FA7C1-C592-46B7-857F-0EE793AEC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38790-B877-4EF7-B7AA-D7D1A40B9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AE5E3-BFC2-4621-BBDF-BB3D068B9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2CF75-88BB-4764-90C4-FA377FDC0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1D5A8-B26B-4251-91C9-40FFA0874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83209-D82B-4566-B124-C4F1F86F2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FD1FD-2812-4860-B1EF-586DF5ED8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7F501-13DC-4281-A74A-41BE67D4B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C8F80-0975-44BB-B586-44B24231C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1D2E1-DC8F-4F65-8FB1-50677D41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35229-8C3E-4596-83DA-90AED51CF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EFB20-180C-48A3-A843-315DC3CE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0BEF8-A45A-4ABD-A918-74C1DAA1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6E9F4-0192-4294-B017-1DD2F0549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AD87E-28E4-4170-BEBC-C82FEF769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D71FF-601E-4C6A-928C-5ABAF6A93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F727B-9951-4471-863B-A925F8441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2A019-0E38-4674-AAEA-BBBAF36B7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8E2AF-5735-41E1-9777-7E5579D7A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E7841-7D32-4527-8B16-C116A79CC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ABDC3-62D4-48EA-B7F0-DF696B74C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6EA64-A000-4341-BABC-2B5F2DD7A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CDA20-EC15-40CC-8479-706B75FDD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FB218-658E-4AAE-B86B-690172DE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31E2B-941A-4351-BEFA-C5C5EADB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A1646-0D00-45C0-82A9-ECB6CC62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DA230-D1C7-40C5-B108-57E32DE3D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6155F-CDB1-4FF2-8883-40D164460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C6C39-2751-4FEE-9305-F18227143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58BF1-29A8-4CF0-89C8-FE400BC33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15C4B-1BD6-4E89-A80C-DA2C82A1E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DF6F1-10A4-4B3C-A62E-935BB61B5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02450-61C6-4B1C-8D2A-FB3A1D945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E58B9-7164-45B7-B74A-79AB07CC0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3371B-D97C-4DE9-B492-E1CA9FE29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11704-8FCA-4739-A03E-779B3A57A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ED92E-5C31-460C-9A39-031A0C81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6B586-C6F1-45ED-8415-1146420E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6130D-A8FF-46FB-9591-5A52CB57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26FD4-C4BB-43D5-A1C8-0FB758428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82756-4D18-4423-A065-9AF4F192A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C0641-EDE7-424D-B08C-F9D6B21D8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82835-5781-4A3D-9974-086993964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C61D6-68AA-445F-87F7-86405084C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162E9-7E78-4410-9FA6-B4605235D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8389F-6D14-454F-AE81-70A533702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CD073-F46F-44AE-802E-C7BCF01C6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7F1F4-F526-474D-B3C4-ABFFA0279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496C0-452E-4A8F-9680-5AF1FD384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8ED5B4-42E7-4655-8DB2-9B3DDA4C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60685-87E7-4BC2-95EB-58C6CA5E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E3956-1A5E-4AB3-B34A-D531C5EA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D0B12-F19C-4B18-B54E-28BB39680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E8360-44FD-4932-AE30-B1714B9F1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F3342-FB48-42A5-98FF-18296CC85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90F4C-6EBD-49D4-B546-D64E10787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B93AA-89B3-40D3-8BF7-6DEF413C0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0A95A-9A1A-47C9-8D3A-3DD9E3009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7DAB8-E51E-4FDA-8BCD-571A378F1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8298F-C752-41D9-8C5F-37E6FB0A3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8DB14C-30BC-442B-ADDC-CACACEAAE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F63A4-567E-4779-A594-E5B92500D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6849C-E4DC-49CC-AAB2-DC6F6EA1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099FC5-0047-4738-BC32-C170F431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69AD6-B088-4189-BD49-23C02A21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7C5EB-415A-4A02-AC33-01DBBF6E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AA7DD-F20A-45CA-A30B-20B68BCAF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F896F8-760C-40F7-B2BC-E624C8724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D6FB8-2D9B-4D38-8E12-08DF06693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24D77-E68C-4E54-8395-404A6789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5CAF5-BC6A-4088-AC0D-BCDD7FBE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44C52-E275-4D97-932A-B7F71E8C5D4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DA7AB-D4C8-41AB-A47A-44535430A79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00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01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15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1E121-F4CF-4EE2-A8BE-40F0C73E98F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92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93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307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dt" idx="10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9FA2C-0A89-4853-AD27-56ECB2DD458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83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F4D4D-76C0-493B-AF4C-56F39530D15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527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9" name="PlaceHolder 1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FC7C4-85B3-48C1-9214-BE7DF50CCAD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cc"/>
                </a:solidFill>
                <a:uFillTx/>
                <a:latin typeface="Tahoma"/>
              </a:rPr>
              <a:t>Medieval Weapons and War Tactics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stin Gold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eri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1-4-0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2093760" cy="2133720"/>
          </a:xfrm>
          <a:prstGeom prst="rect">
            <a:avLst/>
          </a:prstGeom>
          <a:ln w="0">
            <a:noFill/>
          </a:ln>
        </p:spPr>
      </p:pic>
      <p:pic>
        <p:nvPicPr>
          <p:cNvPr id="573" name="" descr=""/>
          <p:cNvPicPr/>
          <p:nvPr/>
        </p:nvPicPr>
        <p:blipFill>
          <a:blip r:embed="rId2"/>
          <a:stretch/>
        </p:blipFill>
        <p:spPr>
          <a:xfrm>
            <a:off x="6172200" y="4419720"/>
            <a:ext cx="2666880" cy="21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War Tactic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fore a Batt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surprise was cruci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spies may have been reporting information for weeks or even months before the w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position was also cruci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if a force was positioned on a hill, then the enemy would have to attack up a slop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if a force was positioned in a wooded area, they might be able to hide troops until the troops were require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6934320" y="152280"/>
            <a:ext cx="1523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War Tactic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fore a Batt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before a battle, opposing armies might camp quite close to each othe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devices known as caltrops were spread over the ground the enemy would charge 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caltrops were made of metal and had four sharp, pointed prongs sticking out in different direction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these devices would be thrown down and could cause injury if trampled over by a man or horse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6553080" y="228600"/>
            <a:ext cx="205740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War Tactic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fore a Batt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Nobles would meet to discuss thei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ttle pla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also, before a battle, a commander might send his herald, or messenger, to the enemy camp to offer peace term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Right before battle, if there was time, a priest would say prayers and troops would cross themselv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The king or commanding noble would also give an inspiring speech before the soldiers go off to batt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1"/>
          <a:stretch/>
        </p:blipFill>
        <p:spPr>
          <a:xfrm>
            <a:off x="6705720" y="152280"/>
            <a:ext cx="20397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War Tactic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ctics During Batt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tactics were often influence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y tradi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men of the same rank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ught one anoth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knights would fight on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other and foot soldier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ould fight one anoth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defending the standard, or flag, was important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the standard was a rallying point for troo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to lose the standard was a disgrace and would indicate that the enemy was winn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2" name="" descr=""/>
          <p:cNvPicPr/>
          <p:nvPr/>
        </p:nvPicPr>
        <p:blipFill>
          <a:blip r:embed="rId1"/>
          <a:stretch/>
        </p:blipFill>
        <p:spPr>
          <a:xfrm>
            <a:off x="5562720" y="1295280"/>
            <a:ext cx="342900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War Tactic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ter a Batt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- victorious foot soldiers would kill enemy troops lying on the ground  injured or dying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- their own injured would be carried off on shields used as stretcher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- knights captured by their enemies spent months or even years in prison until their families paid for their releas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- prisoners of war were treated with civilit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5" name="" descr=""/>
          <p:cNvPicPr/>
          <p:nvPr/>
        </p:nvPicPr>
        <p:blipFill>
          <a:blip r:embed="rId1"/>
          <a:stretch/>
        </p:blipFill>
        <p:spPr>
          <a:xfrm>
            <a:off x="7010280" y="0"/>
            <a:ext cx="173844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Bibliographi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Book 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ltzer, Milton.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Weapons and Warfar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New York, NY: HarperCollins Publishers, 1996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Book I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illiam, Paul.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Medieval Weapons and Warfar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First. new York, NY: The Rosen Publishing Group, Inc., 2004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Internet Source I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he Battlefield: Tactics and Weapon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World Era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Ed. Jeremiah Hackett. Vol. 4: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Medieval Europe, 814-1350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Detroit: Gale Group, 2002. p209-21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Internet Source I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Benjamin, Garfield. "Threat of Medieval Siege Weapons."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Medieval Enthusiasts #1 Resource for Medieval Warfare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. 2004. 4 Nov 2008 &lt;http://www.medieval-castle-siege-weapons.com/medieval-siege-weapons.html&gt;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Weap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rossbow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perated by a single soldi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low rate of fi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perator is vulnerabl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ngbow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riginally a hunting weap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ix feet in length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reater fire than the crossbow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p to six arrows per minut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perator is also vulnerable to enemy attac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1"/>
          <a:stretch/>
        </p:blipFill>
        <p:spPr>
          <a:xfrm>
            <a:off x="5715000" y="1371600"/>
            <a:ext cx="2286000" cy="1581120"/>
          </a:xfrm>
          <a:prstGeom prst="rect">
            <a:avLst/>
          </a:prstGeom>
          <a:ln w="0">
            <a:noFill/>
          </a:ln>
        </p:spPr>
      </p:pic>
      <p:pic>
        <p:nvPicPr>
          <p:cNvPr id="577" name="" descr=""/>
          <p:cNvPicPr/>
          <p:nvPr/>
        </p:nvPicPr>
        <p:blipFill>
          <a:blip r:embed="rId2"/>
          <a:stretch/>
        </p:blipFill>
        <p:spPr>
          <a:xfrm>
            <a:off x="6781680" y="3429000"/>
            <a:ext cx="190512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Weap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Swor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highly symboli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made holy by the churc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“swords of war”- swords with blade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5 inches or longe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used by knights on horsebac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nobleman, officers of state, and members of important guilds had swords of greater length carried in front of them. This was a sign of their high statu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6248520" y="533520"/>
            <a:ext cx="26953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Weap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used to smash a knight’s arm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a hit to the head- the victim is stunned or kill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simple mace- could be made by driving nails into a club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this cheap weapon becam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pular among the peasant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f Europ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5410080" y="4114800"/>
            <a:ext cx="350532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Weap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Knif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ivilians carried a knife everywher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y went, even wome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 if you ate somewhere outside you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ome, your were expected to bring your own knife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 violence was the accepted method of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olving problem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 people took insults to their honor ver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riousl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 if there was a dispute, out came the knife to stab</a:t>
            </a: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6248520" y="457200"/>
            <a:ext cx="1755720" cy="2819520"/>
          </a:xfrm>
          <a:prstGeom prst="rect">
            <a:avLst/>
          </a:prstGeom>
          <a:ln w="0">
            <a:noFill/>
          </a:ln>
        </p:spPr>
      </p:pic>
      <p:pic>
        <p:nvPicPr>
          <p:cNvPr id="587" name="" descr=""/>
          <p:cNvPicPr/>
          <p:nvPr/>
        </p:nvPicPr>
        <p:blipFill>
          <a:blip r:embed="rId2"/>
          <a:stretch/>
        </p:blipFill>
        <p:spPr>
          <a:xfrm>
            <a:off x="6840360" y="4114800"/>
            <a:ext cx="21542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Siege Weap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ebuch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used commonly when laying siege on a castl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could destroy a castle and castle breach was almost assured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limited ways of countering thi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eap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launches objects that woul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enetrate and shatter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stle wall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5181480" y="3886200"/>
            <a:ext cx="373392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Siege Weap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llis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ed in laying siege on a cast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 fortres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sends forth a spea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could cause the scattering of force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side and outside the cast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this made a breach of th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stle even easi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5987880" y="1905120"/>
            <a:ext cx="30909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War Tactic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ot Soldi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During the fourteenth century, foot soldiers and archers greatly outnumbered knight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carried sword and dagg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effective weapon was know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 the pike, poleaxe, o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halberd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This was a weapon made fr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combination of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spear and ax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6019920" y="228600"/>
            <a:ext cx="2895480" cy="1862280"/>
          </a:xfrm>
          <a:prstGeom prst="rect">
            <a:avLst/>
          </a:prstGeom>
          <a:ln w="0">
            <a:noFill/>
          </a:ln>
        </p:spPr>
      </p:pic>
      <p:pic>
        <p:nvPicPr>
          <p:cNvPr id="597" name="" descr=""/>
          <p:cNvPicPr/>
          <p:nvPr/>
        </p:nvPicPr>
        <p:blipFill>
          <a:blip r:embed="rId2"/>
          <a:stretch/>
        </p:blipFill>
        <p:spPr>
          <a:xfrm>
            <a:off x="5181480" y="2819520"/>
            <a:ext cx="350532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War Tactic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ch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knights feared archers mo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the longbow was the deadly weapo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chers us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at short range this bow and arrow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uld penetrate plate armo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arrows were carried in a quiver on the hip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if knights charged, archers behind a protective shield, would wait until knights were in rang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1"/>
          <a:stretch/>
        </p:blipFill>
        <p:spPr>
          <a:xfrm>
            <a:off x="6248520" y="1295280"/>
            <a:ext cx="2388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21:56:01Z</dcterms:created>
  <dc:creator>ben golden</dc:creator>
  <dc:description/>
  <dc:language>en-US</dc:language>
  <cp:lastModifiedBy>ben golden</cp:lastModifiedBy>
  <dcterms:modified xsi:type="dcterms:W3CDTF">2008-11-13T01:52:01Z</dcterms:modified>
  <cp:revision>19</cp:revision>
  <dc:subject/>
  <dc:title>Medieval Weapons and War Tactic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