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8D2-2D3D-4C11-AC48-B39DDC36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4ED-900A-41B7-923A-FC0F8985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662D-6D6F-4754-95B5-31072BDE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8314-009B-4169-A0AE-C43C2844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E38-E1D7-4216-BF6F-1CFDC410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974-565A-4DA8-AB75-F0093D4F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B1D-18E9-470B-AB32-3710C921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1A9-1812-42A7-8EFA-E7252E48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1E1-2418-4138-AD20-525562C2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72B-5A1A-408B-8421-DF16EF52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CE1-44CE-4A61-85F7-9FDFD777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70F7-2F0D-4C02-B403-43824D7A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5232-1E85-4492-8612-9D0CC76B2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auhaus 93"/>
              </a:rPr>
              <a:t>Words for Unit 5 and The Miracle Wor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oper Black"/>
              </a:rPr>
              <a:t>By: Jessica J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sip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47920" y="44953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. - to scatter in various directions; disperse; dispel (ver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onyms – scatter, disappear, v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wind finally dissipated the clouds after the st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- from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"apart" +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a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"to throw, scatter.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0292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articu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90760" y="2209680"/>
            <a:ext cx="38862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- lacking the ability to express oneself, esp. in clear and effective speech (adjec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onyms – mute, du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is mouth stuffed, he could utter only inarticulate s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 - from L.L. inarticulatus "indistinct," from in- "not" + articulat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274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9:36:43Z</dcterms:created>
  <dc:creator>Renee Wolven</dc:creator>
  <dc:description/>
  <dc:language>en-US</dc:language>
  <cp:lastModifiedBy>Renee Wolven</cp:lastModifiedBy>
  <dcterms:modified xsi:type="dcterms:W3CDTF">2010-01-20T00:06:48Z</dcterms:modified>
  <cp:revision>3</cp:revision>
  <dc:subject/>
  <dc:title>Dissipate</dc:title>
</cp:coreProperties>
</file>