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9DA-9CC5-4986-80F4-72D92780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453-44E8-4A99-9D96-DED844C8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182-848F-4389-BFB5-30E84C4A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60E-E404-438B-BA7D-A47FFF32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653-B822-464F-B7F7-81BF8C61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360-1E8B-4A4D-A90E-2FEE5CA1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A85-10A5-41FC-B428-62C03EC6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56B-97BD-41FC-964E-4F16F026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99E-6720-4BF6-89DF-EE8232B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7FF-CDBC-4CE6-A13F-BBFD2E6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70D-0FD1-4DC5-A2A7-553D304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FD1-3B90-4265-AA21-5DC85CE9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DF14-61B7-4CED-AAAF-4398732EC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uhaus 93"/>
              </a:rPr>
              <a:t>Words for Unit 5 and The Miracle Wor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oper Black"/>
              </a:rPr>
              <a:t>By: Jessica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sip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44953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. - to scatter in various directions; disperse; dispel (ver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scatter, disappear, v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wind finally dissipated the clouds after the st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- from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apart" 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to throw, scatter.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029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3886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- lacking the ability to express oneself, esp. in clear and effective speech (adje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mute, du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is mouth stuffed, he could utter only inarticulate s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 - from L.L. inarticulatus "indistinct," from in- "not" + articul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274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9:36:43Z</dcterms:created>
  <dc:creator>Renee Wolven</dc:creator>
  <dc:description/>
  <dc:language>en-US</dc:language>
  <cp:lastModifiedBy>Renee Wolven</cp:lastModifiedBy>
  <dcterms:modified xsi:type="dcterms:W3CDTF">2010-01-20T00:06:48Z</dcterms:modified>
  <cp:revision>3</cp:revision>
  <dc:subject/>
  <dc:title>Dissipate</dc:title>
</cp:coreProperties>
</file>