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F49-1331-4C54-8867-8B6116DD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CB6-8173-4F17-8593-AA600AD6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559-B2B0-404B-8F74-2A73B009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734-BE11-402D-99DA-DFBAEA6F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25E-43DB-49E2-B890-5396188D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7F4-DC9E-4151-8075-B06D0FCC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5D9-163A-4A71-B83C-26E34123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4E2-F42E-4357-8F02-53D3A682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738-6EB3-48F2-A5C7-2E6DE66F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92C-9C5B-4A83-B6A6-5A9E075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EC0-0948-4EA3-8830-2CA2962D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42C-60A8-496A-996B-34E6AAF9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E648-0855-43E9-81C0-C2DCBA91B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uhaus 93"/>
              </a:rPr>
              <a:t>Words for Unit 5 and The Miracle Wor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oper Black"/>
              </a:rPr>
              <a:t>By: Jessica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sip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44953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. - to scatter in various directions; disperse; dispel (ver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scatter, disappear, v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wind finally dissipated the clouds after the st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- from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apart" +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to throw, scatter.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029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artic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38862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- lacking the ability to express oneself, esp. in clear and effective speech (adjec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mute, du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is mouth stuffed, he could utter only inarticulate s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 - from L.L. inarticulatus "indistinct," from in- "not" + articul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274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9:36:43Z</dcterms:created>
  <dc:creator>Renee Wolven</dc:creator>
  <dc:description/>
  <dc:language>en-US</dc:language>
  <cp:lastModifiedBy>Renee Wolven</cp:lastModifiedBy>
  <dcterms:modified xsi:type="dcterms:W3CDTF">2010-01-20T00:06:48Z</dcterms:modified>
  <cp:revision>3</cp:revision>
  <dc:subject/>
  <dc:title>Dissipate</dc:title>
</cp:coreProperties>
</file>