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DFF-D8CD-4B53-BF38-A777DA4E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140-C87E-4470-B70F-37B59DF5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E20-12CB-4A9D-B57F-B2F06845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2EE-92C0-4EE1-9FCE-C5DD8D93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B8B-7FCD-43B6-849B-C981E3A4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E07-754D-4C1E-BCBD-47304E1C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DF64-C1C9-447C-8B1C-CF12B53F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94F-B28D-494C-BB28-32504D6B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C70-8DD6-4ECC-9D84-45F46495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1B0-24F0-49C9-B63D-74086B9A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B4D-7D01-4386-84F0-5D91FD34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F43C-4B7B-457E-A2DB-B75FE77B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5787-9930-412D-B348-E5BCC74FD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uhaus 93"/>
              </a:rPr>
              <a:t>Words for Unit 5 and The Miracle Wor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oper Black"/>
              </a:rPr>
              <a:t>By: Jessica 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sip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7920" y="44953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. - to scatter in various directions; disperse; dispel (ver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onyms – scatter, disappear, v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wind finally dissipated the clouds after the st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- from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apart" +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to throw, scatter.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0292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articu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90760" y="2209680"/>
            <a:ext cx="38862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- lacking the ability to express oneself, esp. in clear and effective speech (adjec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onyms – mute, du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is mouth stuffed, he could utter only inarticulate s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 - from L.L. inarticulatus "indistinct," from in- "not" + articulat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274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9:36:43Z</dcterms:created>
  <dc:creator>Renee Wolven</dc:creator>
  <dc:description/>
  <dc:language>en-US</dc:language>
  <cp:lastModifiedBy>Renee Wolven</cp:lastModifiedBy>
  <dcterms:modified xsi:type="dcterms:W3CDTF">2010-01-20T00:06:48Z</dcterms:modified>
  <cp:revision>3</cp:revision>
  <dc:subject/>
  <dc:title>Dissipate</dc:title>
</cp:coreProperties>
</file>