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AEC-31E3-4AD5-9C88-BC188F43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434-CB80-498A-BB3F-BA92EBC1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4F8-2C5B-4F15-811E-909172C1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B43-7707-45D3-9D65-9075819F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79F-EDDF-4C66-9E64-EA8D5EBF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241-31B8-465D-AC57-E39E2F76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9DB-B5AF-4F4D-A0DB-7173060A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D0B-0671-46F0-AD7C-096B878C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7D3-63FA-4432-BE3A-796800E1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79F-4DFE-4718-92CA-4B7E5A3A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E9B-6A1F-4776-8A65-CDB9E417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A5E-45DA-4250-8AA1-240DA733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E82A-2FF0-43B4-AA4B-8BD6783F9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uhaus 93"/>
              </a:rPr>
              <a:t>Words for Unit 5 and The Miracle Wor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oper Black"/>
              </a:rPr>
              <a:t>By: Jessica 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sip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920" y="44953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. - to scatter in various directions; disperse; dispel (ver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onyms – scatter, disappear, v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wind finally dissipated the clouds after the st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- from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apart" +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to throw, scatter.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0292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articu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760" y="2209680"/>
            <a:ext cx="38862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- lacking the ability to express oneself, esp. in clear and effective speech (adjec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onyms – mute, du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is mouth stuffed, he could utter only inarticulate s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 - from L.L. inarticulatus "indistinct," from in- "not" + articulat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274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9:36:43Z</dcterms:created>
  <dc:creator>Renee Wolven</dc:creator>
  <dc:description/>
  <dc:language>en-US</dc:language>
  <cp:lastModifiedBy>Renee Wolven</cp:lastModifiedBy>
  <dcterms:modified xsi:type="dcterms:W3CDTF">2010-01-20T00:06:48Z</dcterms:modified>
  <cp:revision>3</cp:revision>
  <dc:subject/>
  <dc:title>Dissipate</dc:title>
</cp:coreProperties>
</file>