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0F1-323B-461B-9205-63CD4651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EFA-E62A-4554-8D30-540DFA9B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99F-64BD-49D0-A12F-1DA369AC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0D1-CFDD-43A2-9F71-FDF89F6E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594-8583-43ED-8030-5280618D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E853-C3A8-4180-A54E-15134709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DBDE-1D18-4C6D-82C7-C6880C7A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C06-E9E9-49D5-B7C6-8B40DF8A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EEA-3261-44AE-A266-2E9BAD91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CFF-9F84-46C4-BD86-7CCA30F9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1BB-9A94-4E2F-9843-3401B489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792-77BA-4F2E-A4DA-524E4AA0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AB2D-21B8-4622-A9E9-E2381E1CE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uhaus 93"/>
              </a:rPr>
              <a:t>Words for Unit 5 and The Miracle Wor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oper Black"/>
              </a:rPr>
              <a:t>By: Jessica 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sip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920" y="44953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. - to scatter in various directions; disperse; dispel (ver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onyms – scatter, disappear, v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wind finally dissipated the clouds after the st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- from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apart" +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to throw, scatter.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0292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articu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90760" y="2209680"/>
            <a:ext cx="38862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- lacking the ability to express oneself, esp. in clear and effective speech (adjec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onyms – mute, du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is mouth stuffed, he could utter only inarticulate s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 - from L.L. inarticulatus "indistinct," from in- "not" + articulat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274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9:36:43Z</dcterms:created>
  <dc:creator>Renee Wolven</dc:creator>
  <dc:description/>
  <dc:language>en-US</dc:language>
  <cp:lastModifiedBy>Renee Wolven</cp:lastModifiedBy>
  <dcterms:modified xsi:type="dcterms:W3CDTF">2010-01-20T00:06:48Z</dcterms:modified>
  <cp:revision>3</cp:revision>
  <dc:subject/>
  <dc:title>Dissipate</dc:title>
</cp:coreProperties>
</file>