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E8BB-179F-4506-87D3-A99F6258C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CEDB-3B5C-4AE6-A23C-57300981A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D9A-3770-4519-9026-DB10339A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DBB-DF6B-450F-8967-22A46DB7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C8F-7A5B-46B8-BB47-B108F1AE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243-15E3-47C3-8541-7999EBE1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D6E-9C5E-4326-9FE7-4F263A1C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B72-2218-4DFB-9DEA-3829ED90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592-E93A-4E40-8768-E98D087F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850-0346-4D1B-AE63-82C4931E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B11-8421-412C-AFCF-26CE6EAA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F46-EAD4-4B4F-B88B-A0866C77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814-B04C-4D89-8D6C-C0A12B8D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6E5-8F63-498C-91B8-581069DC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CB7A-8383-424F-B113-0CA52CE52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24120" y="1295280"/>
            <a:ext cx="213372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plans are contingent on the weather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ble to happen or not; uncertain;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: 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gere "to touch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stockphoto_4710464-rain-or-shine"/>
          <p:cNvPicPr/>
          <p:nvPr/>
        </p:nvPicPr>
        <p:blipFill>
          <a:blip r:embed="rId1"/>
          <a:stretch/>
        </p:blipFill>
        <p:spPr>
          <a:xfrm>
            <a:off x="2057400" y="457200"/>
            <a:ext cx="3057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3:16:02Z</dcterms:created>
  <dc:creator>Blanz</dc:creator>
  <dc:description/>
  <dc:language>en-US</dc:language>
  <cp:lastModifiedBy>GACS</cp:lastModifiedBy>
  <dcterms:modified xsi:type="dcterms:W3CDTF">2010-01-22T00:33:01Z</dcterms:modified>
  <cp:revision>4</cp:revision>
  <dc:subject/>
  <dc:title>Our plans are contingent depending on the weather. </dc:title>
</cp:coreProperties>
</file>