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2AED-183D-4192-AC55-E72D2F33F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8911-1698-4ABF-9F46-76CED510E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307-5B77-4B74-98F1-DC92C5A5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4317-0E54-44C0-88EA-585C4A3C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F649-1315-47F5-812C-F76786DC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7C5-1840-49B7-96E3-242D2E7D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5540-6308-4A0D-AB73-EA6B8465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6C42-6337-4E3A-8951-E0543EC3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D4A3-592C-4273-B742-3754A04F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5D5E-38A3-44DF-A377-5D930398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96D-652D-44CD-8964-FDE115C9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158-A92E-4005-89E2-16C09C00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237-E159-43D8-AFEC-0C966F80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D2E-BF2E-461E-8775-7E1A8254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AAA7-D1CB-4C91-BB49-E2C6575D5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24120" y="1295280"/>
            <a:ext cx="213372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plans are contingent on the weather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ble to happen or not; uncertain;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: 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gere "to touch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istockphoto_4710464-rain-or-shine"/>
          <p:cNvPicPr/>
          <p:nvPr/>
        </p:nvPicPr>
        <p:blipFill>
          <a:blip r:embed="rId1"/>
          <a:stretch/>
        </p:blipFill>
        <p:spPr>
          <a:xfrm>
            <a:off x="2057400" y="457200"/>
            <a:ext cx="3057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3:16:02Z</dcterms:created>
  <dc:creator>Blanz</dc:creator>
  <dc:description/>
  <dc:language>en-US</dc:language>
  <cp:lastModifiedBy>GACS</cp:lastModifiedBy>
  <dcterms:modified xsi:type="dcterms:W3CDTF">2010-01-22T00:33:01Z</dcterms:modified>
  <cp:revision>4</cp:revision>
  <dc:subject/>
  <dc:title>Our plans are contingent depending on the weather. </dc:title>
</cp:coreProperties>
</file>