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4BD-8E8A-4A43-9D73-8DF6FC4B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7B5-5134-40EC-9BFF-3842BFEB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AAF-3F1E-4A19-AB7F-8BC9B79D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980-B9F0-4B00-A1F5-EDDF0AF1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247-0788-4E5F-B488-785D8A80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D7A-47EA-4392-99D7-3738E657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4DB-1157-491B-B3EF-7EB92ACA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640-FCDD-4628-928D-C512FA1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F4E-15FF-4C59-BE62-8EBFA3D3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865-1B7B-435A-9EB4-DDA924A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780-49BC-406F-8FC0-46F4BF0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E57-17CA-4513-A2E9-E080FB3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126-0C62-430A-B87F-E0BA168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A3B-6532-4BB0-B5FA-52472C3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480-CBF2-4519-B7FB-BC1AF4A88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4120" y="1295280"/>
            <a:ext cx="21337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lans are contingent on the weather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ble to happen or not; uncertain;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: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gere "to touc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stockphoto_4710464-rain-or-shine"/>
          <p:cNvPicPr/>
          <p:nvPr/>
        </p:nvPicPr>
        <p:blipFill>
          <a:blip r:embed="rId1"/>
          <a:stretch/>
        </p:blipFill>
        <p:spPr>
          <a:xfrm>
            <a:off x="2057400" y="457200"/>
            <a:ext cx="3057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16:02Z</dcterms:created>
  <dc:creator>Blanz</dc:creator>
  <dc:description/>
  <dc:language>en-US</dc:language>
  <cp:lastModifiedBy>GACS</cp:lastModifiedBy>
  <dcterms:modified xsi:type="dcterms:W3CDTF">2010-01-22T00:33:01Z</dcterms:modified>
  <cp:revision>4</cp:revision>
  <dc:subject/>
  <dc:title>Our plans are contingent depending on the weather. </dc:title>
</cp:coreProperties>
</file>