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A0E-9B17-4958-9EEA-4968CF092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F09A-FE88-4AF9-80DA-1C9B414A5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3D8-1BE8-440A-B4F4-FC17984D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162-FB1F-4CD8-B9F8-B1C38050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CE7-6EBA-4C3E-B352-A42CD24C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0C3-F6E9-444C-AB4D-B387EACC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BE5-F983-47ED-B55C-45A39C9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48F-3B0B-4437-B02E-9DB2D193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3F2-4DD5-44B6-8B4A-E9AF977F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4F9-6689-43C3-8C89-9C39728B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CCE-487E-495F-BD03-62FC0106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1F9-7DC2-4B1E-9998-54C5A033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743-6F8A-4D50-98AE-80BB0AE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88B-58AB-46E9-8E34-266941C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7B5-1CCE-4E67-BCBC-4D3D6D01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4120" y="1295280"/>
            <a:ext cx="213372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lans are contingent on the weather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ble to happen or not; uncertain;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: 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gere "to touc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stockphoto_4710464-rain-or-shine"/>
          <p:cNvPicPr/>
          <p:nvPr/>
        </p:nvPicPr>
        <p:blipFill>
          <a:blip r:embed="rId1"/>
          <a:stretch/>
        </p:blipFill>
        <p:spPr>
          <a:xfrm>
            <a:off x="2057400" y="457200"/>
            <a:ext cx="3057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16:02Z</dcterms:created>
  <dc:creator>Blanz</dc:creator>
  <dc:description/>
  <dc:language>en-US</dc:language>
  <cp:lastModifiedBy>GACS</cp:lastModifiedBy>
  <dcterms:modified xsi:type="dcterms:W3CDTF">2010-01-22T00:33:01Z</dcterms:modified>
  <cp:revision>4</cp:revision>
  <dc:subject/>
  <dc:title>Our plans are contingent depending on the weather. </dc:title>
</cp:coreProperties>
</file>