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2F48-412F-4F24-B69E-A63F803F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F9B3-7D6A-4950-B3A9-D015199F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CC6-F5CC-418F-8DAC-3D881203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109-79D1-4378-9EB2-E49E3CDE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0C35-6373-40BB-BA82-D7081FC3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36E1-9780-4E76-8068-5482317A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357A-1E65-4A97-AACE-1D1ABF1F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76B4-0553-4192-8089-BD9EEBA4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70D9-5E77-4B79-BA66-7F59E88F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ACDD-F29A-49EB-8CC2-CE61F5FC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2F60-9D1D-4D66-941D-4DC509C9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06F-8A31-4101-B160-1310A108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E066-660B-4ACB-8B0F-4B5F11FD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EF15-15CB-48F4-B3A5-2E64DC4D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503E-C57C-4BE1-9BE8-1E61A713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85ED-5FEF-4CF0-B111-65BC43F2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BF0E-5E11-487B-8779-9D1A6222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7CB-54D3-4F6E-8F84-879ED1C1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3EA7-E650-4C12-9D56-69FE8568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18F-28D9-4608-9BB3-048C5130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526-B6AD-464C-BF59-664BBA06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E09-D82C-471F-8FFA-F43EBFE6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C91-99F5-430B-8A33-289F7229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99FF-62D6-4C77-A161-2225E27B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0710-5791-44EB-93D4-8B24D2E579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84C4-ABCC-4A4D-9FE0-9B6A417BF7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line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neation-noun-a chart or diagram; sketch; 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-account, depiction, picture, re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-1560–70fro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tin wor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ēlīneātiōn-(a sketch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nt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lineation of the economic diagram was descriptive and prec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495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0:23:13Z</dcterms:created>
  <dc:creator>greg</dc:creator>
  <dc:description/>
  <dc:language>en-US</dc:language>
  <cp:lastModifiedBy>greg</cp:lastModifiedBy>
  <dcterms:modified xsi:type="dcterms:W3CDTF">2010-01-25T00:34:29Z</dcterms:modified>
  <cp:revision>2</cp:revision>
  <dc:subject/>
  <dc:title>Delineation</dc:title>
</cp:coreProperties>
</file>