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33AA-6AE5-45D7-873C-5D83FD168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4A5F-FAF7-497E-B522-C44D61BB1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D8AC-BCE5-4A47-96E5-58384F3A7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4434-3035-4DFA-99BF-799C979A0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6A252-57F0-44B2-8FAC-DB6C6474C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63BCC-2A97-4901-B516-70B29140B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1F5EB-263A-4DD0-8991-5D91420F4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B445E-1D0F-4D2E-B164-9270963BF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AE796-0E49-4151-8606-EB4094598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B1246-C6E1-4D9D-81F3-A7F4501D8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84C14-B205-4B77-BD9B-A7E5BCA0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5AF1-93BD-46A1-A848-37603480B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A180C-B93F-4B93-8B90-E5BE997F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A1BEE-ED85-4B4E-92A9-5AB2B7BB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6EE14-ECD1-4221-AFFB-7CAD7B2C1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9C277-79F3-4E02-90B0-704518183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98285-1BE4-4020-B46E-FAE8E8B2B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6910-5695-4EBE-8D38-1BC8D4876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4688-E7D6-43B3-9CCE-F3ACB762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2897-7287-44A5-A015-FE021BBA7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9E1D-F5AC-4787-B029-E0F0168B5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FCFE-F28E-4495-8272-F6ACA3BE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AA75-99C4-49EB-97E6-811165BB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D0A7-F967-4202-A2F9-FFCFCEE4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78217-5D93-4D1F-8311-03DDB46A582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EDACC-466E-4836-9DBF-2CA292B6EDF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elinea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ineation-noun-a chart or diagram; sketch; 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onyms-account, depiction, picture, rend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igin-1560–70from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atin wor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ēlīneātiōn-(a sketch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enten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elineation of the economic diagram was descriptive and preci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114800" y="3505320"/>
            <a:ext cx="44956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00:23:13Z</dcterms:created>
  <dc:creator>greg</dc:creator>
  <dc:description/>
  <dc:language>en-US</dc:language>
  <cp:lastModifiedBy>greg</cp:lastModifiedBy>
  <dcterms:modified xsi:type="dcterms:W3CDTF">2010-01-25T00:34:29Z</dcterms:modified>
  <cp:revision>2</cp:revision>
  <dc:subject/>
  <dc:title>Delineation</dc:title>
</cp:coreProperties>
</file>