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75F-B440-4ED9-A887-8D0B83AF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EC4-1C14-4E08-9DC8-1068EC39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FD8-BA02-4AEB-83FD-50560F8C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738-FAA3-4D6B-8260-5ED7B1AB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DD3-FF72-4D07-B77A-EA198F0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3B8-85DA-499F-9C4F-104ED8C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841-2E29-4D42-B6C5-7087F3F8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18A-FD1B-4059-9830-C4905E19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B51-1C8E-4955-9618-EB15CBB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92F-FA3B-4F8D-AEF8-AB60224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AB1-D341-4B81-9B4C-F0666A7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994-6B13-4A6B-A1F6-F9F76D2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2661-0551-4861-AE27-888AB6FB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3573360"/>
            <a:ext cx="3117600" cy="275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15T23:42:23Z</dcterms:modified>
  <cp:revision>4</cp:revision>
  <dc:subject/>
  <dc:title>Painstakingly</dc:title>
</cp:coreProperties>
</file>