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E03-4D50-455B-AB36-9BB46A4C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CAF-FBA0-43B2-957D-DAE37976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421-CF9A-4422-8CF0-DD024A36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6C2-EF82-4FEC-BAE7-401D08BC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D02-7E43-4D0F-8AA7-B48D7C7E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D36-9989-438B-90A7-8B06F2D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AEF-7F8D-4908-9570-25C832ED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2BA-960D-44D8-A4A3-3654E975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399-70C4-4E69-82D7-999E0809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8A8-60E3-4086-98EB-950D4BC5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775-183A-4545-85C4-9D59A07E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990-120E-47A9-896D-20673703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9897-8282-4257-B8FD-99639A2FD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nstaki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- Marked by or requiring great pains; very careful and di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instaki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researched the topic for hours so that my essay would be astonis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3573360"/>
            <a:ext cx="3117600" cy="2752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15T23:42:23Z</dcterms:modified>
  <cp:revision>4</cp:revision>
  <dc:subject/>
  <dc:title>Painstakingly</dc:title>
</cp:coreProperties>
</file>