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116-2F0D-4E52-99FD-6B63F0F2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FFB-4712-4AED-BED9-99C0047D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A42-74BA-4B64-A619-85451894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CFD-2A0B-48F2-9DDB-0A8342AA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3C6-BD3D-4C0C-A4E4-AC4C073E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C6B-43E0-4F22-BE39-1E40A4B6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DDF-A7DF-4B7F-9E4D-EAB99CEC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CA8-1F55-45B6-A75B-0917E928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3CE-C369-49E9-90DC-88317D4B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1E9A-CD55-4967-B2AC-C099FB4C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6C9-EE66-4E9A-9684-A875DCDC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CC1-DAE8-45B3-B316-DE180810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C44A-567D-4D65-B8E5-5B963A208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instaking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- Marked by or requiring great pains; very careful and dilig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instakin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 researched the topic for hours so that my essay would be astonis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3573360"/>
            <a:ext cx="3117600" cy="2752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3:15:19Z</dcterms:created>
  <dc:creator>Emma</dc:creator>
  <dc:description/>
  <dc:language>en-US</dc:language>
  <cp:lastModifiedBy>Emma</cp:lastModifiedBy>
  <dcterms:modified xsi:type="dcterms:W3CDTF">2010-01-15T23:42:23Z</dcterms:modified>
  <cp:revision>4</cp:revision>
  <dc:subject/>
  <dc:title>Painstakingly</dc:title>
</cp:coreProperties>
</file>