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A1C8-F694-479F-8EFB-23CCE7A5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08D5-76A6-4B3E-B190-E31B6D0A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0854-6302-4BA0-B0A0-2041CE35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B21A-776A-4ECE-8694-1DDFD6A4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9C47-5496-480D-9E23-85A2E2A8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301F-3CD5-4CA6-8A9F-B87A4987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0047-A85A-4171-A3A4-8451B5EA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0675-DC6D-44B4-B010-2B60B745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1023-CFC2-4938-8194-4D1C4F2B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E0FD-F41A-49CD-B2AB-66631AD1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66BA-E755-462A-A2F9-31FF68C4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2B22-A8FF-4104-8175-E9FAD92E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CB54-0DA5-4DF9-82DD-7C0EFDFE5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instaking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- Marked by or requiring great pains; very careful and dilig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instaking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 researched the topic for hours so that my essay would be astonis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35280" y="3573360"/>
            <a:ext cx="3117600" cy="2752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23:15:19Z</dcterms:created>
  <dc:creator>Emma</dc:creator>
  <dc:description/>
  <dc:language>en-US</dc:language>
  <cp:lastModifiedBy>Emma</cp:lastModifiedBy>
  <dcterms:modified xsi:type="dcterms:W3CDTF">2010-01-15T23:42:23Z</dcterms:modified>
  <cp:revision>4</cp:revision>
  <dc:subject/>
  <dc:title>Painstakingly</dc:title>
</cp:coreProperties>
</file>