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9D97-FFB8-4325-8E2F-37D65EDE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290-5171-468C-81B3-BFB53BDB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15F-A58E-4321-A118-42AD79DE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3932-078E-4315-B7E4-1D38D537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36F-E428-4CC8-B1D0-601D2DA8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F338-E62D-4429-9971-1FDEB443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8E09-D1E1-46A1-A77E-5AC878DD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1250-21AB-400D-B663-49201F7A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C975-64A1-47FE-8223-CD30040C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A2A8-5D2A-4D31-99F4-411C2274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7346-F022-4972-B021-AC7DCBBD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0BCF-443E-4D9C-BA16-50E650E9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7DB9-A276-4298-9E12-FB056A9EC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ug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gnant- adj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sing disgust or aversion; offensive or repul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dictory; inconsis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pugnant smell was coming from the garbage c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19640" y="3429000"/>
            <a:ext cx="1976400" cy="3062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24360" y="3573360"/>
            <a:ext cx="2953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pugnant-, repugnan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esent participl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pugn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to fight agains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ugn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o figh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23:15:19Z</dcterms:created>
  <dc:creator>Emma</dc:creator>
  <dc:description/>
  <dc:language>en-US</dc:language>
  <cp:lastModifiedBy>Emma</cp:lastModifiedBy>
  <dcterms:modified xsi:type="dcterms:W3CDTF">2010-01-24T22:05:01Z</dcterms:modified>
  <cp:revision>5</cp:revision>
  <dc:subject/>
  <dc:title>Painstakingly</dc:title>
</cp:coreProperties>
</file>