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A91-EA3F-4E07-9267-1775CDBE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D3E-8226-4EF5-AC54-131AC44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B6E-1DF1-4C4A-99C9-B27DF30A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D9B-B457-4585-9F78-DA21973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1B3-8360-4FCE-93A6-DDC22C3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E8C-DA6F-42F7-A089-16F62A1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B42-50D3-433E-98BA-059D388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4A2-546F-466B-97DB-CE92297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82A-CB8B-4B7C-8BEA-B65037BB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508-DCC4-414A-BA74-7C02305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927-8118-4600-AB53-7646ED2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FCC-A558-4366-BC5E-2975692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7E12-04B6-4607-BAAB-8B8DC364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u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- adj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ing disgust or aversion; offensive or repul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ory; inconsis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ugnant smell was coming from the garbage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1976400" cy="306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24360" y="3573360"/>
            <a:ext cx="29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nt-, repugnan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sent partici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o fight again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gn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o figh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3:15:19Z</dcterms:created>
  <dc:creator>Emma</dc:creator>
  <dc:description/>
  <dc:language>en-US</dc:language>
  <cp:lastModifiedBy>Emma</cp:lastModifiedBy>
  <dcterms:modified xsi:type="dcterms:W3CDTF">2010-01-24T22:05:01Z</dcterms:modified>
  <cp:revision>5</cp:revision>
  <dc:subject/>
  <dc:title>Painstakingly</dc:title>
</cp:coreProperties>
</file>