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36A-8AB2-4E47-B98E-C054AA60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337-AABC-49D2-9357-EAC4C45D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866-ACAE-41D0-801F-54C8C2B1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903-E83F-4788-94F9-C4B319B7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54A-BF18-4D82-923B-5E14907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18D-1A59-4848-A524-0B0D662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043-964D-41A3-8BF9-08D9B111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BC9-94B5-4A5B-A6F2-A8A9515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289-20D8-45A1-A1E6-914AE07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67D-3597-454A-B37C-077E04D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145-682A-4F10-BBDF-E9694DA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ECF-D5C2-483D-B83D-AAD6468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7F61-DE22-4DBE-A3D2-7726855C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u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- adj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ing disgust or aversion; offensive or repul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ory; in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ugnant smell was coming from the garbage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976400" cy="306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3573360"/>
            <a:ext cx="29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nt-, repugnan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sent partici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o fight again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o f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4T22:05:01Z</dcterms:modified>
  <cp:revision>5</cp:revision>
  <dc:subject/>
  <dc:title>Painstakingly</dc:title>
</cp:coreProperties>
</file>