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0DAC-BB22-49C3-9FCB-E02DF5240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1914-1D4C-4A39-AAF5-600900D5F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0077-262C-4290-91EF-3930DA544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8A84-5B21-46C3-A8AC-B09158D5A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99C6-B428-4D0B-A2DC-6FE1E2C82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0F40-0223-4E56-8649-437B23D1F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BE6A-739D-4C37-9A64-DECB752D6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21AA-5B5C-43E8-A1ED-E378F9B29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7AFD-8D2A-4979-A280-4EAB42D7C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4DF5-BDD4-4309-946D-84A9E904E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6358-746B-453F-8F53-1C50D290E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498F-55B5-45A6-82CB-017D3E73F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E24EA-4ECC-4962-B66A-7983DD19E2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80880" y="48769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wrath- noun-from Old English wrǣththu- fierce anger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re-noun-Latin: īra anger -intense anger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ttp://dictionary.reference.com/browse/wrath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ttp://dictionary.reference.com/browse/ir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521052385_97fac6b326"/>
          <p:cNvPicPr/>
          <p:nvPr/>
        </p:nvPicPr>
        <p:blipFill>
          <a:blip r:embed="rId1"/>
          <a:stretch/>
        </p:blipFill>
        <p:spPr>
          <a:xfrm>
            <a:off x="0" y="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babyinstructions01"/>
          <p:cNvPicPr/>
          <p:nvPr/>
        </p:nvPicPr>
        <p:blipFill>
          <a:blip r:embed="rId2"/>
          <a:stretch/>
        </p:blipFill>
        <p:spPr>
          <a:xfrm>
            <a:off x="304920" y="259092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44" name="Text Box 8"/>
          <p:cNvSpPr/>
          <p:nvPr/>
        </p:nvSpPr>
        <p:spPr>
          <a:xfrm>
            <a:off x="5181480" y="457200"/>
            <a:ext cx="3276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order to avoid the unexpected babies'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wrath/ir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we must treat them nice and give them what they wa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472428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icayunish- petty, me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ic a-yun ish adj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780–90; &lt; Pr picaioun small copper coin, deriv. of an onomatopoetic base *pikk- beat, here referring to the coining of copp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://dictionary.reference.com/browse/picayunis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http://4.bp.blogspot.com/_z1Ez7ODMGn4/SfMGItTsppI/AAAAAAAAARQ/0hCUhZEmaNc/s320/picky-eaters.jpg"/>
          <p:cNvPicPr/>
          <p:nvPr/>
        </p:nvPicPr>
        <p:blipFill>
          <a:blip r:embed="rId1"/>
          <a:stretch/>
        </p:blipFill>
        <p:spPr>
          <a:xfrm>
            <a:off x="914400" y="380880"/>
            <a:ext cx="4114800" cy="4114800"/>
          </a:xfrm>
          <a:prstGeom prst="rect">
            <a:avLst/>
          </a:prstGeom>
          <a:ln w="0">
            <a:noFill/>
          </a:ln>
        </p:spPr>
      </p:pic>
      <p:sp>
        <p:nvSpPr>
          <p:cNvPr id="47" name="TextBox 4"/>
          <p:cNvSpPr/>
          <p:nvPr/>
        </p:nvSpPr>
        <p:spPr>
          <a:xfrm>
            <a:off x="5105520" y="609480"/>
            <a:ext cx="327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picayunis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child did not want his peas to touch his mash potato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val 6"/>
          <p:cNvSpPr/>
          <p:nvPr/>
        </p:nvSpPr>
        <p:spPr>
          <a:xfrm>
            <a:off x="2057400" y="3809880"/>
            <a:ext cx="76320" cy="7632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905120" y="3809880"/>
            <a:ext cx="75960" cy="7632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5T16:30:50Z</dcterms:created>
  <dc:creator>deepfreeze</dc:creator>
  <dc:description/>
  <dc:language>en-US</dc:language>
  <cp:lastModifiedBy>deepfreeze</cp:lastModifiedBy>
  <dcterms:modified xsi:type="dcterms:W3CDTF">2010-01-19T12:51:15Z</dcterms:modified>
  <cp:revision>5</cp:revision>
  <dc:subject/>
  <dc:title>Slide 1</dc:title>
</cp:coreProperties>
</file>