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2ACC-2CFB-40B2-8B75-E602C3BA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D71F-E42F-472A-A710-6525CCF1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8B2D-91B6-4221-B602-B38D1D418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3456-2F9D-4532-B3AA-FE1C00F79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02D5-05CA-416C-8824-2656C9D7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D3BF-C070-449A-BFF3-34D74FAA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A317-D5DA-49C9-B7BE-B3401FC6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2437-96BF-4494-8F08-04FA0104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7F32-00C3-41DE-9407-7E892752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14AE-D948-46B9-AA3C-EA0462FF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1CED-D3F9-4488-B581-3138ECA7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7A85-E4E6-46B3-A907-BE194FD0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3F2C-395D-4635-A06C-A89CA51DE8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880" y="4876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rath- noun-from Old English wrǣththu- fierce an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re-noun-Latin: īra anger -intense an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ttp://dictionary.reference.com/browse/wrat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ttp://dictionary.reference.com/browse/i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521052385_97fac6b326"/>
          <p:cNvPicPr/>
          <p:nvPr/>
        </p:nvPicPr>
        <p:blipFill>
          <a:blip r:embed="rId1"/>
          <a:stretch/>
        </p:blipFill>
        <p:spPr>
          <a:xfrm>
            <a:off x="0" y="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babyinstructions01"/>
          <p:cNvPicPr/>
          <p:nvPr/>
        </p:nvPicPr>
        <p:blipFill>
          <a:blip r:embed="rId2"/>
          <a:stretch/>
        </p:blipFill>
        <p:spPr>
          <a:xfrm>
            <a:off x="304920" y="25909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5181480" y="457200"/>
            <a:ext cx="32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order to avoid the unexpected babies'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wrath/i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we must treat them nice and give them what they w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47242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icayunish- petty,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ic a-yun ish adj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780–90; &lt; Pr picaioun small copper coin, deriv. of an onomatopoetic base *pikk- beat, here referring to the coining of copp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dictionary.reference.com/browse/picayunis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4.bp.blogspot.com/_z1Ez7ODMGn4/SfMGItTsppI/AAAAAAAAARQ/0hCUhZEmaNc/s320/picky-eaters.jpg"/>
          <p:cNvPicPr/>
          <p:nvPr/>
        </p:nvPicPr>
        <p:blipFill>
          <a:blip r:embed="rId1"/>
          <a:stretch/>
        </p:blipFill>
        <p:spPr>
          <a:xfrm>
            <a:off x="914400" y="3808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5105520" y="609480"/>
            <a:ext cx="327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icayunis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hild did not want his peas to touch his mash potato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6"/>
          <p:cNvSpPr/>
          <p:nvPr/>
        </p:nvSpPr>
        <p:spPr>
          <a:xfrm>
            <a:off x="2057400" y="3809880"/>
            <a:ext cx="76320" cy="76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905120" y="3809880"/>
            <a:ext cx="75960" cy="76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6:30:50Z</dcterms:created>
  <dc:creator>deepfreeze</dc:creator>
  <dc:description/>
  <dc:language>en-US</dc:language>
  <cp:lastModifiedBy>deepfreeze</cp:lastModifiedBy>
  <dcterms:modified xsi:type="dcterms:W3CDTF">2010-01-19T12:51:15Z</dcterms:modified>
  <cp:revision>5</cp:revision>
  <dc:subject/>
  <dc:title>Slide 1</dc:title>
</cp:coreProperties>
</file>