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730-CD7B-47EF-8E00-AAB498F7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FC0-C838-4471-B350-3449F373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74D-F5AE-47FC-B750-062BDBD3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4F4-752E-4943-A8B3-E48AE628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DAA-309C-403A-B7F8-5A7F3D24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8E0-622D-4B3F-94E7-569C5572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78D-6371-4A58-8883-AE210623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984-98F1-47A0-AA8A-855280C8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4FB-BB98-4F27-B4FD-392EC2C1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D74-AE50-486E-9E80-6AE2380E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A36-89F2-4659-8605-888DA4D5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826-C08B-40DF-93F4-2920DCAB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2125-307B-46B2-90F3-F56312645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ath- noun-from Old English wrǣththu- fierc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re-noun-Latin: īra anger -intens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wra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i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521052385_97fac6b326"/>
          <p:cNvPicPr/>
          <p:nvPr/>
        </p:nvPicPr>
        <p:blipFill>
          <a:blip r:embed="rId1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babyinstructions01"/>
          <p:cNvPicPr/>
          <p:nvPr/>
        </p:nvPicPr>
        <p:blipFill>
          <a:blip r:embed="rId2"/>
          <a:stretch/>
        </p:blipFill>
        <p:spPr>
          <a:xfrm>
            <a:off x="304920" y="2590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5181480" y="4572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rder to avoid the unexpected babies'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rath/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e must treat them nice and give them what they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724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ayunish- petty,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 a-yun ish ad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80–90; &lt; Pr picaioun small copper coin, deriv. of an onomatopoetic base *pikk- beat, here referring to the coining of cop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dictionary.reference.com/browse/picayun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4.bp.blogspot.com/_z1Ez7ODMGn4/SfMGItTsppI/AAAAAAAAARQ/0hCUhZEmaNc/s320/picky-eaters.jpg"/>
          <p:cNvPicPr/>
          <p:nvPr/>
        </p:nvPicPr>
        <p:blipFill>
          <a:blip r:embed="rId1"/>
          <a:stretch/>
        </p:blipFill>
        <p:spPr>
          <a:xfrm>
            <a:off x="914400" y="380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5105520" y="6094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icayuni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ild did not want his peas to touch his mash potat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905120" y="380988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30:50Z</dcterms:created>
  <dc:creator>deepfreeze</dc:creator>
  <dc:description/>
  <dc:language>en-US</dc:language>
  <cp:lastModifiedBy>deepfreeze</cp:lastModifiedBy>
  <dcterms:modified xsi:type="dcterms:W3CDTF">2010-01-19T12:51:15Z</dcterms:modified>
  <cp:revision>5</cp:revision>
  <dc:subject/>
  <dc:title>Slide 1</dc:title>
</cp:coreProperties>
</file>