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BD68-BBBF-43A0-9565-4FBBE5E9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1374-5248-42F1-9D3B-531071CD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C523-D6CE-4CC4-8B10-BC7D2A957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95F2-B6E2-4722-856A-5E6BB9C6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AEDD-D9A3-4DEB-9ED1-F2A1E4B5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FBCC-F8F5-434C-84C1-4C5A9142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D0EB-63E8-4D77-A6A9-D11092CD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FB5A-8D61-492C-A3C1-27D3291A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2CCC-8B92-4B3A-A95E-2BFD17CF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DB8F-0480-4B57-97B4-66FD0FEB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0DDB-C7E2-4BC9-B1CC-B224107D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7DDF-084E-4D09-8D3E-F3C8AC42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D2D1-DEBD-4E6E-97EE-CA390AD149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880" y="4876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rath- noun-from Old English wrǣththu- fierce an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re-noun-Latin: īra anger -intense an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ttp://dictionary.reference.com/browse/wrat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ttp://dictionary.reference.com/browse/i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521052385_97fac6b326"/>
          <p:cNvPicPr/>
          <p:nvPr/>
        </p:nvPicPr>
        <p:blipFill>
          <a:blip r:embed="rId1"/>
          <a:stretch/>
        </p:blipFill>
        <p:spPr>
          <a:xfrm>
            <a:off x="0" y="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babyinstructions01"/>
          <p:cNvPicPr/>
          <p:nvPr/>
        </p:nvPicPr>
        <p:blipFill>
          <a:blip r:embed="rId2"/>
          <a:stretch/>
        </p:blipFill>
        <p:spPr>
          <a:xfrm>
            <a:off x="304920" y="25909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5181480" y="457200"/>
            <a:ext cx="32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order to avoid the unexpected babies'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wrath/i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we must treat them nice and give them what they w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47242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icayunish- petty,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ic a-yun ish adj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780–90; &lt; Pr picaioun small copper coin, deriv. of an onomatopoetic base *pikk- beat, here referring to the coining of copp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dictionary.reference.com/browse/picayunis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4.bp.blogspot.com/_z1Ez7ODMGn4/SfMGItTsppI/AAAAAAAAARQ/0hCUhZEmaNc/s320/picky-eaters.jpg"/>
          <p:cNvPicPr/>
          <p:nvPr/>
        </p:nvPicPr>
        <p:blipFill>
          <a:blip r:embed="rId1"/>
          <a:stretch/>
        </p:blipFill>
        <p:spPr>
          <a:xfrm>
            <a:off x="914400" y="3808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5105520" y="609480"/>
            <a:ext cx="327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icayunis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hild did not want his peas to touch his mash potato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6"/>
          <p:cNvSpPr/>
          <p:nvPr/>
        </p:nvSpPr>
        <p:spPr>
          <a:xfrm>
            <a:off x="2057400" y="3809880"/>
            <a:ext cx="76320" cy="76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905120" y="3809880"/>
            <a:ext cx="75960" cy="76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6:30:50Z</dcterms:created>
  <dc:creator>deepfreeze</dc:creator>
  <dc:description/>
  <dc:language>en-US</dc:language>
  <cp:lastModifiedBy>deepfreeze</cp:lastModifiedBy>
  <dcterms:modified xsi:type="dcterms:W3CDTF">2010-01-19T12:51:15Z</dcterms:modified>
  <cp:revision>5</cp:revision>
  <dc:subject/>
  <dc:title>Slide 1</dc:title>
</cp:coreProperties>
</file>