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5434-7E54-4BBB-9586-76D57810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067-67A7-4B09-B7B9-578DC91E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D7C-A1C7-49E2-ADA1-6EDEEBFE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E45-E199-47E6-9F2F-E7155E72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159-A50C-4761-83CD-C46DC450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0CB-5B61-4A54-A333-60DE786D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20B-C4E9-40DD-9E4F-4B186B45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414-CC52-4DB5-A73C-D103ECFC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C9A-428A-4C8E-A9A9-04507134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056-FF1F-4AA1-9A3D-905248CC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467-114D-4B43-B3ED-C1C1FDBC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581-541F-45E4-97DE-7DCF38C7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63CF-AF3A-4DFD-B740-88E188414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idious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IDI/FASTIDI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k of appetite, disgu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ous-ful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idious-adj. difficult to please; squeam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udge, Simon Cowell, was fastidious as Larry Platt sang his favorite song, “Pants on the Ground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american-idol-larry-platt-pants-on-the-ground-2jpg-b1f762f60174f065_large"/>
          <p:cNvPicPr/>
          <p:nvPr/>
        </p:nvPicPr>
        <p:blipFill>
          <a:blip r:embed="rId1"/>
          <a:stretch/>
        </p:blipFill>
        <p:spPr>
          <a:xfrm>
            <a:off x="5410080" y="3276720"/>
            <a:ext cx="2824200" cy="31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imon-Cowell"/>
          <p:cNvPicPr/>
          <p:nvPr/>
        </p:nvPicPr>
        <p:blipFill>
          <a:blip r:embed="rId2"/>
          <a:stretch/>
        </p:blipFill>
        <p:spPr>
          <a:xfrm>
            <a:off x="1371600" y="38862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articulate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ICUL/AR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divide into joints, speak distinct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in-not; ate-to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rticulate-adj. speechless; producing indistinct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enager was almost inarticulate after her parents got her a car for her sixteenth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arissa_08"/>
          <p:cNvPicPr/>
          <p:nvPr/>
        </p:nvPicPr>
        <p:blipFill>
          <a:blip r:embed="rId1"/>
          <a:stretch/>
        </p:blipFill>
        <p:spPr>
          <a:xfrm>
            <a:off x="2514600" y="3666960"/>
            <a:ext cx="42577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2:35:04Z</dcterms:created>
  <dc:creator>GACS</dc:creator>
  <dc:description/>
  <dc:language>en-US</dc:language>
  <cp:lastModifiedBy>GACS</cp:lastModifiedBy>
  <dcterms:modified xsi:type="dcterms:W3CDTF">2010-01-28T23:52:01Z</dcterms:modified>
  <cp:revision>5</cp:revision>
  <dc:subject/>
  <dc:title>fastidious</dc:title>
</cp:coreProperties>
</file>