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1CA-8331-4BA1-8F5F-CDE8365B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D8C7-6470-4AA9-9DFC-05B6C764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C3B-09D6-44CE-9233-7AC9435C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EC7-8FA1-433B-8D5B-E3CD5236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D4C-DA5B-447D-AB6F-71192FBC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EB2-E58A-4F36-ACE9-6AE099AC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270-BC5D-4954-BAC6-666EB6FC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E40-0D28-4F82-A08D-4AD9AC83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D62-BE0D-47E1-B355-E00446CF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4D1-1F52-40DF-A855-64640D01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833-C0C8-41C0-BA15-A84BEDE9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02C-37D3-4C77-A73A-47BAC78A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4013-EC34-47C6-BBB9-3B59C7125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idious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IDI/FASTIDI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k of appetite, disgu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ous-ful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idious-adj. difficult to please; squeam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udge, Simon Cowell, was fastidious as Larry Platt sang his favorite song, “Pants on the Ground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american-idol-larry-platt-pants-on-the-ground-2jpg-b1f762f60174f065_large"/>
          <p:cNvPicPr/>
          <p:nvPr/>
        </p:nvPicPr>
        <p:blipFill>
          <a:blip r:embed="rId1"/>
          <a:stretch/>
        </p:blipFill>
        <p:spPr>
          <a:xfrm>
            <a:off x="5410080" y="3276720"/>
            <a:ext cx="2824200" cy="31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imon-Cowell"/>
          <p:cNvPicPr/>
          <p:nvPr/>
        </p:nvPicPr>
        <p:blipFill>
          <a:blip r:embed="rId2"/>
          <a:stretch/>
        </p:blipFill>
        <p:spPr>
          <a:xfrm>
            <a:off x="1371600" y="38862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articulate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ICUL/AR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divide into joints, speak distinct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in-not; ate-to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rticulate-adj. speechless; producing indistinct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enager was almost inarticulate after her parents got her a car for her sixteenth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arissa_08"/>
          <p:cNvPicPr/>
          <p:nvPr/>
        </p:nvPicPr>
        <p:blipFill>
          <a:blip r:embed="rId1"/>
          <a:stretch/>
        </p:blipFill>
        <p:spPr>
          <a:xfrm>
            <a:off x="2514600" y="3666960"/>
            <a:ext cx="42577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2:35:04Z</dcterms:created>
  <dc:creator>GACS</dc:creator>
  <dc:description/>
  <dc:language>en-US</dc:language>
  <cp:lastModifiedBy>GACS</cp:lastModifiedBy>
  <dcterms:modified xsi:type="dcterms:W3CDTF">2010-01-28T23:52:01Z</dcterms:modified>
  <cp:revision>5</cp:revision>
  <dc:subject/>
  <dc:title>fastidious</dc:title>
</cp:coreProperties>
</file>