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7BE4-2C93-4E7C-BDA5-1CC0D352E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508C-5788-4D67-809D-39D2CFA6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6C7A-7266-421E-997C-2C5FC820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AAA5-6261-4744-AF67-E4971B009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2A26-F10B-4EA4-B0DB-40DF391B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1FD4-2508-4B96-B3B0-EEBEEAF1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A0FE-C691-475D-BC16-4F2F7C7F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04BC-686B-4E0A-BF87-2F8957A6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2CC1-85A2-42DE-B90A-81AD5F93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841A-B982-4CB3-84E6-AA9E4DBE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1DC2-FFEF-4970-A8EF-E1E0F32B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FFFC-B8CA-4068-B204-E4410210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899F-F135-4B3A-9E93-E689C867D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stidious</a:t>
            </a:r>
            <a:br>
              <a:rPr sz="44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STIDI/FASTIDIU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lack of appetite, disgu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ous-full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idious-adj. difficult to please; squeam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udge, Simon Cowell, was fastidious as Larry Platt sang his favorite song, “Pants on the Ground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american-idol-larry-platt-pants-on-the-ground-2jpg-b1f762f60174f065_large"/>
          <p:cNvPicPr/>
          <p:nvPr/>
        </p:nvPicPr>
        <p:blipFill>
          <a:blip r:embed="rId1"/>
          <a:stretch/>
        </p:blipFill>
        <p:spPr>
          <a:xfrm>
            <a:off x="5410080" y="3276720"/>
            <a:ext cx="2824200" cy="3124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Simon-Cowell"/>
          <p:cNvPicPr/>
          <p:nvPr/>
        </p:nvPicPr>
        <p:blipFill>
          <a:blip r:embed="rId2"/>
          <a:stretch/>
        </p:blipFill>
        <p:spPr>
          <a:xfrm>
            <a:off x="1371600" y="388620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articulate</a:t>
            </a:r>
            <a:br>
              <a:rPr sz="44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TICUL/ART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divide into joints, speak distinctl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in-not; ate-to m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articulate-adj. speechless; producing indistinct 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enager was almost inarticulate after her parents got her a car for her sixteenth birth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marissa_08"/>
          <p:cNvPicPr/>
          <p:nvPr/>
        </p:nvPicPr>
        <p:blipFill>
          <a:blip r:embed="rId1"/>
          <a:stretch/>
        </p:blipFill>
        <p:spPr>
          <a:xfrm>
            <a:off x="2514600" y="3666960"/>
            <a:ext cx="42577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2:35:04Z</dcterms:created>
  <dc:creator>GACS</dc:creator>
  <dc:description/>
  <dc:language>en-US</dc:language>
  <cp:lastModifiedBy>GACS</cp:lastModifiedBy>
  <dcterms:modified xsi:type="dcterms:W3CDTF">2010-01-28T23:52:01Z</dcterms:modified>
  <cp:revision>5</cp:revision>
  <dc:subject/>
  <dc:title>fastidious</dc:title>
</cp:coreProperties>
</file>