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53D9-F03E-44B8-95AD-E763B2A68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7D95-284B-4CAB-AACC-8206023D7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263C-49CF-4C34-A171-782EED219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5E57-92C1-4A9A-BC25-6BCA9C335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2F9A-747D-4633-9B80-F73C99091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148B-F64B-4281-A332-4D5FAA59D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1E61-50F5-4570-8085-32F841E85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BDCC-26D6-42A4-B0E3-90A20B6C4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3A96-BB4E-4A36-AAFD-B65CB1106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A2F1-A1CE-4301-90F3-B90BC1FA3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4155-3702-4B24-8F5B-083FB48B6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DB5D-BEC7-4D80-9FE9-09AC39BDF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EA057-CB4A-415B-A989-7925FB8353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stidious</a:t>
            </a:r>
            <a:br>
              <a:rPr sz="44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ASTIDI/FASTIDIU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lack of appetite, disgus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ous-full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stidious-adj. difficult to please; squeam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judge, Simon Cowell, was fastidious as Larry Platt sang his favorite song, “Pants on the Ground.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7" descr="american-idol-larry-platt-pants-on-the-ground-2jpg-b1f762f60174f065_large"/>
          <p:cNvPicPr/>
          <p:nvPr/>
        </p:nvPicPr>
        <p:blipFill>
          <a:blip r:embed="rId1"/>
          <a:stretch/>
        </p:blipFill>
        <p:spPr>
          <a:xfrm>
            <a:off x="5410080" y="3276720"/>
            <a:ext cx="2824200" cy="31240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9" descr="Simon-Cowell"/>
          <p:cNvPicPr/>
          <p:nvPr/>
        </p:nvPicPr>
        <p:blipFill>
          <a:blip r:embed="rId2"/>
          <a:stretch/>
        </p:blipFill>
        <p:spPr>
          <a:xfrm>
            <a:off x="1371600" y="3886200"/>
            <a:ext cx="33526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articulate</a:t>
            </a:r>
            <a:br>
              <a:rPr sz="44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RTICUL/ARTI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divide into joints, speak distinctly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in-not; ate-to ma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articulate-adj. speechless; producing indistinct 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eenager was almost inarticulate after her parents got her a car for her sixteenth birth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marissa_08"/>
          <p:cNvPicPr/>
          <p:nvPr/>
        </p:nvPicPr>
        <p:blipFill>
          <a:blip r:embed="rId1"/>
          <a:stretch/>
        </p:blipFill>
        <p:spPr>
          <a:xfrm>
            <a:off x="2514600" y="3666960"/>
            <a:ext cx="4257720" cy="31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2:35:04Z</dcterms:created>
  <dc:creator>GACS</dc:creator>
  <dc:description/>
  <dc:language>en-US</dc:language>
  <cp:lastModifiedBy>GACS</cp:lastModifiedBy>
  <dcterms:modified xsi:type="dcterms:W3CDTF">2010-01-28T23:52:01Z</dcterms:modified>
  <cp:revision>5</cp:revision>
  <dc:subject/>
  <dc:title>fastidious</dc:title>
</cp:coreProperties>
</file>