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B174-63F3-4C17-89C2-2074FEED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BE84-52CB-4B5D-AED3-F9E6315F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E010-B5D9-43B0-83B8-FE8C1879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B30E-9C34-42CB-BBDC-686424C4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7848-BE25-4D0F-89D1-747A8E84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5AE6-4975-439F-B629-897EEA3C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6A05-7AF5-4274-9C31-C5AF103D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36B3-CF6A-4C82-B7A0-954C9D8D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B95C-8CE2-433B-8CF1-427385C1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D568-B98C-402E-BA88-A364B43B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7934-E9DE-47C5-90A6-15209D7B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A2C7-5C01-4D7A-A40F-D38C98A4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DF48-894D-4B02-937D-B8ECB2CD8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tidious</a:t>
            </a:r>
            <a:br>
              <a:rPr sz="44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STIDI/FASTIDIU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lack of appetite, disgu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ous-full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idious-adj. difficult to please; squeam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udge, Simon Cowell, was fastidious as Larry Platt sang his favorite song, “Pants on the Ground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american-idol-larry-platt-pants-on-the-ground-2jpg-b1f762f60174f065_large"/>
          <p:cNvPicPr/>
          <p:nvPr/>
        </p:nvPicPr>
        <p:blipFill>
          <a:blip r:embed="rId1"/>
          <a:stretch/>
        </p:blipFill>
        <p:spPr>
          <a:xfrm>
            <a:off x="5410080" y="3276720"/>
            <a:ext cx="2824200" cy="3124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Simon-Cowell"/>
          <p:cNvPicPr/>
          <p:nvPr/>
        </p:nvPicPr>
        <p:blipFill>
          <a:blip r:embed="rId2"/>
          <a:stretch/>
        </p:blipFill>
        <p:spPr>
          <a:xfrm>
            <a:off x="1371600" y="388620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articulate</a:t>
            </a:r>
            <a:br>
              <a:rPr sz="44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TICUL/ART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divide into joints, speak distinctl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in-not; ate-to m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articulate-adj. speechless; producing indistinct 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enager was almost inarticulate after her parents got her a car for her sixteenth birth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marissa_08"/>
          <p:cNvPicPr/>
          <p:nvPr/>
        </p:nvPicPr>
        <p:blipFill>
          <a:blip r:embed="rId1"/>
          <a:stretch/>
        </p:blipFill>
        <p:spPr>
          <a:xfrm>
            <a:off x="2514600" y="3666960"/>
            <a:ext cx="42577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2:35:04Z</dcterms:created>
  <dc:creator>GACS</dc:creator>
  <dc:description/>
  <dc:language>en-US</dc:language>
  <cp:lastModifiedBy>GACS</cp:lastModifiedBy>
  <dcterms:modified xsi:type="dcterms:W3CDTF">2010-01-28T23:52:01Z</dcterms:modified>
  <cp:revision>5</cp:revision>
  <dc:subject/>
  <dc:title>fastidious</dc:title>
</cp:coreProperties>
</file>