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0C3-DCDE-4969-8E64-0313F6D0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5BF-60A1-4098-8504-0B331DCF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E82-C071-46B9-AD0C-ED905831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8D3-BA2B-43FE-907A-9457D4EF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D0C-E626-4E18-A3AF-9D4D97B9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091-785F-4DB7-B106-B1A7040B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037-B74E-4E08-B6CB-4C6F9C42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93C-DD45-4624-B920-843572B9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D8D-7DDA-4EF1-B261-60B9006A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8F8-E27D-42D4-9124-6B4798EF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F23-3146-4DD1-A60B-38C6F31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776-669B-4C6A-A261-4973DEC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4931-90D6-4854-8A4C-58D19957A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idious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IDI/FASTID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k of appetite, disg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ous-ful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idious-adj. difficult to please; squea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udge, Simon Cowell, was fastidious as Larry Platt sang his favorite song, “Pants on the Groun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american-idol-larry-platt-pants-on-the-ground-2jpg-b1f762f60174f065_large"/>
          <p:cNvPicPr/>
          <p:nvPr/>
        </p:nvPicPr>
        <p:blipFill>
          <a:blip r:embed="rId1"/>
          <a:stretch/>
        </p:blipFill>
        <p:spPr>
          <a:xfrm>
            <a:off x="5410080" y="3276720"/>
            <a:ext cx="28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imon-Cowell"/>
          <p:cNvPicPr/>
          <p:nvPr/>
        </p:nvPicPr>
        <p:blipFill>
          <a:blip r:embed="rId2"/>
          <a:stretch/>
        </p:blipFill>
        <p:spPr>
          <a:xfrm>
            <a:off x="13716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articulate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UL/AR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ivide into joints, speak distinc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n-not; ate-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rticulate-adj. speechless; producing indistin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enager was almost inarticulate after her parents got her a car for her sixteenth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rissa_08"/>
          <p:cNvPicPr/>
          <p:nvPr/>
        </p:nvPicPr>
        <p:blipFill>
          <a:blip r:embed="rId1"/>
          <a:stretch/>
        </p:blipFill>
        <p:spPr>
          <a:xfrm>
            <a:off x="2514600" y="3666960"/>
            <a:ext cx="4257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2:35:04Z</dcterms:created>
  <dc:creator>GACS</dc:creator>
  <dc:description/>
  <dc:language>en-US</dc:language>
  <cp:lastModifiedBy>GACS</cp:lastModifiedBy>
  <dcterms:modified xsi:type="dcterms:W3CDTF">2010-01-28T23:52:01Z</dcterms:modified>
  <cp:revision>5</cp:revision>
  <dc:subject/>
  <dc:title>fastidious</dc:title>
</cp:coreProperties>
</file>