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E30E-7E10-4E0D-A11C-EE9057F0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F80-01FC-4FB9-B780-13BF1A12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2ED-3D24-414C-98C3-417FE191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B83-5179-4D98-A591-540F50C3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DDA-1C89-4C5F-BDAE-D257DFCA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7303-DAC9-49E7-AF63-AD04ED14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80C6-04D1-4D52-A517-68E7FCB6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AD9-706B-492A-B1E8-D023AA2B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A9E-E851-4D76-8371-22CD96B3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C4B-CBE9-4277-B592-711B2C3D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A77-4F24-4734-B45B-7E51E9D6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F3A-705A-4F18-AF76-67116571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A166-468B-4121-ADC3-BC8CA6ED2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ing or characterizing by taking pains or trou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ainstakingly completed my math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05320" y="3809880"/>
            <a:ext cx="4029120" cy="2857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38800">
            <a:off x="2438280" y="151920"/>
            <a:ext cx="4038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rint MT Shadow"/>
              </a:rPr>
              <a:t>painstakingl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rint MT Shadow"/>
              <a:ea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80880" y="990720"/>
            <a:ext cx="22860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993300"/>
                  </a:solidFill>
                  <a:miter/>
                </a:ln>
                <a:solidFill>
                  <a:srgbClr val="37d1bf">
                    <a:alpha val="54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alisto MT"/>
              </a:rPr>
              <a:t>repugnant</a:t>
            </a:r>
            <a:endParaRPr b="1" lang="en-US" sz="1800" spc="1" strike="noStrike">
              <a:ln w="25560">
                <a:solidFill>
                  <a:srgbClr val="993300"/>
                </a:solidFill>
                <a:miter/>
              </a:ln>
              <a:solidFill>
                <a:srgbClr val="37d1bf">
                  <a:alpha val="54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1371600"/>
            <a:ext cx="304812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lepha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adj; distasteful, objectionable, or offens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lepha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lepha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743200" y="2666880"/>
            <a:ext cx="2597040" cy="365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15000" y="441972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Elephant"/>
              </a:rPr>
              <a:t>Sentence-</a:t>
            </a: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 Prior to walking into the factory, a repugnant smell filled the 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53352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Pegasus"/>
              </a:rPr>
              <a:t>From latin root:</a:t>
            </a:r>
            <a:r>
              <a:rPr b="1" lang="en-US" sz="1800" spc="-1" strike="noStrike">
                <a:solidFill>
                  <a:srgbClr val="000000"/>
                </a:solidFill>
                <a:latin typeface="Pegasu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ugnantem= to res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1600200"/>
            <a:ext cx="236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Elephant"/>
              </a:rPr>
              <a:t>Synonym:</a:t>
            </a:r>
            <a:r>
              <a:rPr b="0" lang="en-US" sz="1800" spc="-1" strike="noStrike">
                <a:solidFill>
                  <a:srgbClr val="000000"/>
                </a:solidFill>
                <a:latin typeface="Elephant"/>
              </a:rPr>
              <a:t> contradictory; asserting the contrary or opposite; contradicting; inconsistent; logically oppo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657600"/>
            <a:ext cx="160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Elephant"/>
              </a:rPr>
              <a:t>Antonym:</a:t>
            </a:r>
            <a:r>
              <a:rPr b="0" lang="en-US" sz="1800" spc="-1" strike="noStrike">
                <a:solidFill>
                  <a:srgbClr val="000000"/>
                </a:solidFill>
                <a:latin typeface="Elephant"/>
              </a:rPr>
              <a:t> Pleasant; pleasing, agreeable, or enjoyable; giving pleas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3:05:54Z</dcterms:created>
  <dc:creator>home</dc:creator>
  <dc:description/>
  <dc:language>en-US</dc:language>
  <cp:lastModifiedBy>David Puzas</cp:lastModifiedBy>
  <dcterms:modified xsi:type="dcterms:W3CDTF">2010-01-25T01:59:16Z</dcterms:modified>
  <cp:revision>4</cp:revision>
  <dc:subject/>
  <dc:title>Slide 1</dc:title>
</cp:coreProperties>
</file>