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51E-0B0F-4A8E-AF1D-CDC5F0B9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720-C357-4EFB-A757-75AB9E31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AF6-2B11-4B6B-ACE4-A6EA2505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F87-3B3E-4E32-BEF3-1C456553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85A-71D1-4ED1-97D2-7D757582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190-A45D-4D2F-8685-3A0396E9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1F6-0C62-418E-BAC6-CFBBE7D7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95F-3E72-49CA-A781-2BDA56BA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5CA-7F87-43C9-AC84-2DC3C018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066-10A6-43E0-A27B-81BFA48E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8B3-E831-46A6-9460-7CBCA143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C02-F115-401F-8E86-4523B5EA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FD45-9759-47F5-A1E5-48E7DC839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or characterizing by taking pains or trou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ainstakingly completed my math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3809880"/>
            <a:ext cx="402912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38800">
            <a:off x="2438280" y="151920"/>
            <a:ext cx="4038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rint MT Shadow"/>
              </a:rPr>
              <a:t>painstakingl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990720"/>
            <a:ext cx="2286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993300"/>
                  </a:solidFill>
                  <a:miter/>
                </a:ln>
                <a:solidFill>
                  <a:srgbClr val="37d1bf">
                    <a:alpha val="54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alisto MT"/>
              </a:rPr>
              <a:t>repugnant</a:t>
            </a:r>
            <a:endParaRPr b="1" lang="en-US" sz="1800" spc="1" strike="noStrike">
              <a:ln w="25560">
                <a:solidFill>
                  <a:srgbClr val="993300"/>
                </a:solidFill>
                <a:miter/>
              </a:ln>
              <a:solidFill>
                <a:srgbClr val="37d1bf">
                  <a:alpha val="54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1371600"/>
            <a:ext cx="304812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leph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adj; distasteful, objectionable, or offens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leph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leph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43200" y="2666880"/>
            <a:ext cx="259704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44197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Elephant"/>
              </a:rPr>
              <a:t>Sentence-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 Prior to walking into the factory, a repugnant smell filled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5335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Pegasus"/>
              </a:rPr>
              <a:t>From latin root:</a:t>
            </a:r>
            <a:r>
              <a:rPr b="1" lang="en-US" sz="1800" spc="-1" strike="noStrike">
                <a:solidFill>
                  <a:srgbClr val="000000"/>
                </a:solidFill>
                <a:latin typeface="Pegasu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gnantem= to re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160020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Elephant"/>
              </a:rPr>
              <a:t>Synonym: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</a:rPr>
              <a:t> contradictory; asserting the contrary or opposite; contradicting; inconsistent; logically oppo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657600"/>
            <a:ext cx="16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Elephant"/>
              </a:rPr>
              <a:t>Antonym: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</a:rPr>
              <a:t> Pleasant; pleasing, agreeable, or enjoyable; giving plea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3:05:54Z</dcterms:created>
  <dc:creator>home</dc:creator>
  <dc:description/>
  <dc:language>en-US</dc:language>
  <cp:lastModifiedBy>David Puzas</cp:lastModifiedBy>
  <dcterms:modified xsi:type="dcterms:W3CDTF">2010-01-25T01:59:16Z</dcterms:modified>
  <cp:revision>4</cp:revision>
  <dc:subject/>
  <dc:title>Slide 1</dc:title>
</cp:coreProperties>
</file>