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DA29F-671B-4985-9387-DAC7F57D0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27BE7-4429-42D5-8C81-D155B5E83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F5424-73E1-4E93-BDE9-2786D3817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BE25B-BF75-4B55-B88B-46CF7BC11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7946A-D992-4D8C-947B-9B2F3B739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C72C9-1A24-42EB-9AE7-D1A4207D2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3F8CB-5237-48C9-B451-FA411DA97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C55D6-1D94-46F6-8EDD-913FA5EB2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00E59-3184-43C1-84C9-E6C741DDD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F662A-BBB5-4F6F-9CF0-85DCDF69A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C976B-FB98-4852-AB66-7FB557C7D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1D886-3FDB-482A-B1E6-633A7A065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EA59A-30AA-4BDA-ABAF-D09521BCAD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king or characterizing by taking pains or troubl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painstakingly completed my math homewo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505320" y="3809880"/>
            <a:ext cx="4029120" cy="28576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 rot="238800">
            <a:off x="2438280" y="151920"/>
            <a:ext cx="40388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rint MT Shadow"/>
              </a:rPr>
              <a:t>painstakingly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rint MT Shadow"/>
              <a:ea typeface="Imprint MT Shad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380880" y="990720"/>
            <a:ext cx="228600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993300"/>
                  </a:solidFill>
                  <a:miter/>
                </a:ln>
                <a:solidFill>
                  <a:srgbClr val="37d1bf">
                    <a:alpha val="54000"/>
                  </a:srgbClr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Calisto MT"/>
              </a:rPr>
              <a:t>repugnant</a:t>
            </a:r>
            <a:endParaRPr b="1" lang="en-US" sz="1800" spc="1" strike="noStrike">
              <a:ln w="25560">
                <a:solidFill>
                  <a:srgbClr val="993300"/>
                </a:solidFill>
                <a:miter/>
              </a:ln>
              <a:solidFill>
                <a:srgbClr val="37d1bf">
                  <a:alpha val="54000"/>
                </a:srgbClr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Calisto MT"/>
              <a:ea typeface="Calisto MT"/>
            </a:endParaRPr>
          </a:p>
        </p:txBody>
      </p:sp>
      <p:sp>
        <p:nvSpPr>
          <p:cNvPr id="46" name=""/>
          <p:cNvSpPr/>
          <p:nvPr/>
        </p:nvSpPr>
        <p:spPr>
          <a:xfrm>
            <a:off x="2895480" y="1371600"/>
            <a:ext cx="3048120" cy="240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Elephan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Elephant"/>
              </a:rPr>
              <a:t>adj; distasteful, objectionable, or offensiv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Elephan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Elephan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2743200" y="2666880"/>
            <a:ext cx="2597040" cy="36576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5715000" y="4419720"/>
            <a:ext cx="2819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Elephant"/>
              </a:rPr>
              <a:t>Sentence-</a:t>
            </a:r>
            <a:r>
              <a:rPr b="0" lang="en-US" sz="2400" spc="-1" strike="noStrike">
                <a:solidFill>
                  <a:srgbClr val="000000"/>
                </a:solidFill>
                <a:latin typeface="Elephant"/>
              </a:rPr>
              <a:t> Prior to walking into the factory, a repugnant smell filled the ai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019920" y="533520"/>
            <a:ext cx="2133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Pegasus"/>
              </a:rPr>
              <a:t>From latin root:</a:t>
            </a:r>
            <a:r>
              <a:rPr b="1" lang="en-US" sz="1800" spc="-1" strike="noStrike">
                <a:solidFill>
                  <a:srgbClr val="000000"/>
                </a:solidFill>
                <a:latin typeface="Pegasu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ugnantem= to res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019920" y="1600200"/>
            <a:ext cx="2361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Elephant"/>
              </a:rPr>
              <a:t>Synonym:</a:t>
            </a:r>
            <a:r>
              <a:rPr b="0" lang="en-US" sz="1800" spc="-1" strike="noStrike">
                <a:solidFill>
                  <a:srgbClr val="000000"/>
                </a:solidFill>
                <a:latin typeface="Elephant"/>
              </a:rPr>
              <a:t> contradictory; asserting the contrary or opposite; contradicting; inconsistent; logically opposi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3657600"/>
            <a:ext cx="1600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Elephant"/>
              </a:rPr>
              <a:t>Antonym:</a:t>
            </a:r>
            <a:r>
              <a:rPr b="0" lang="en-US" sz="1800" spc="-1" strike="noStrike">
                <a:solidFill>
                  <a:srgbClr val="000000"/>
                </a:solidFill>
                <a:latin typeface="Elephant"/>
              </a:rPr>
              <a:t> Pleasant; pleasing, agreeable, or enjoyable; giving pleasu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0T03:05:54Z</dcterms:created>
  <dc:creator>home</dc:creator>
  <dc:description/>
  <dc:language>en-US</dc:language>
  <cp:lastModifiedBy>David Puzas</cp:lastModifiedBy>
  <dcterms:modified xsi:type="dcterms:W3CDTF">2010-01-25T01:59:16Z</dcterms:modified>
  <cp:revision>4</cp:revision>
  <dc:subject/>
  <dc:title>Slide 1</dc:title>
</cp:coreProperties>
</file>