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AEE-6A5C-4532-8E95-B85E10EF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42C-2696-4999-934E-8B70CC37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99A-7F13-41EE-86E4-E0C36717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B6A-26E9-495D-8C28-8DC84472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ABF-BC7E-47A8-A165-D2251A50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0D0-6EEB-4143-8D1A-D9BC3753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2E8-E95B-4857-9029-F04F0269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BB6-1B1A-416B-AE29-37FD025C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A1F-CFE1-46C5-8AEA-71CAD27E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735-6AE9-48FD-BAEB-1207F034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C55-70BB-45B3-BE59-43BDA8F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96B-2C66-43FD-86CC-DF19759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4328-DE8A-444B-8BF6-81D9D292C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or characterizing by taking pains or tro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ainstakingly completed my math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3809880"/>
            <a:ext cx="402912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38800">
            <a:off x="2438280" y="151920"/>
            <a:ext cx="4038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rint MT Shadow"/>
              </a:rPr>
              <a:t>painstakingl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990720"/>
            <a:ext cx="2286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37d1bf">
                    <a:alpha val="54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alisto MT"/>
              </a:rPr>
              <a:t>repugnant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solidFill>
                <a:srgbClr val="37d1bf">
                  <a:alpha val="54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1371600"/>
            <a:ext cx="304812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adj; distasteful, objectionable, or offens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lepha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43200" y="2666880"/>
            <a:ext cx="259704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44197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Elephant"/>
              </a:rPr>
              <a:t>Sentence-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 Prior to walking into the factory, a repugnant smell filled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5335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Pegasus"/>
              </a:rPr>
              <a:t>From latin root:</a:t>
            </a:r>
            <a:r>
              <a:rPr b="1" lang="en-US" sz="1800" spc="-1" strike="noStrike">
                <a:solidFill>
                  <a:srgbClr val="000000"/>
                </a:solidFill>
                <a:latin typeface="Pegas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gnantem= to re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60020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Elephant"/>
              </a:rPr>
              <a:t>Synonym: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 contradictory; asserting the contrary or opposite; contradicting; inconsistent; logically oppo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65760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Elephant"/>
              </a:rPr>
              <a:t>Antonym: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 Pleasant; pleasing, agreeable, or enjoyable; giving plea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3:05:54Z</dcterms:created>
  <dc:creator>home</dc:creator>
  <dc:description/>
  <dc:language>en-US</dc:language>
  <cp:lastModifiedBy>David Puzas</cp:lastModifiedBy>
  <dcterms:modified xsi:type="dcterms:W3CDTF">2010-01-25T01:59:16Z</dcterms:modified>
  <cp:revision>4</cp:revision>
  <dc:subject/>
  <dc:title>Slide 1</dc:title>
</cp:coreProperties>
</file>