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12B-E181-4F46-A67E-2F7115EC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B37-D9E7-4AFB-ADCF-1B25D70A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801-E7B1-43C2-B21B-0A4301F1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426-888E-46E2-AB4D-1D70A2A4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5B63-B402-4268-867B-43E24194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131-EDD6-426F-A0F1-2FB41AE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005B-FFB0-454F-A19A-BE8AB2C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DF87-6BD8-4580-A88C-D835B80A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EABD-A334-43C0-8D6F-8E63AA2F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E3EB-D468-4BFF-80CE-AFA3029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E0F4-00B4-4424-810D-6F14A1E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CE1-0C0B-4F5F-BE3D-F0E14703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8356-B945-4E7B-AFD7-2AE4149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B675-D600-43FD-A4D9-627423B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2FDA-41C2-45B4-9E6C-1A2FF65B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3C38-2C02-4BB0-872F-BE8A57AE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5D43-C05F-4D2C-B509-0E417E7C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AFB-A44A-40F5-93FA-50E8284A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36B-C547-4DDB-87A9-2558A9AC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F04-A13F-4BF4-8502-14C3F974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663-607B-4B94-881D-B6C7B03F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817-0181-4E76-95D8-D794280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595-4281-403F-9D8B-1ED3845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7EF-4447-43A0-9D6D-531BA5FA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F06C-E7D8-4081-8778-B9C74BEB86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A76C-2ED5-433B-BF44-40EA158B6B1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isual.merriam-webster.com/arts-architecture/architecture/castle.php" TargetMode="External"/><Relationship Id="rId2" Type="http://schemas.openxmlformats.org/officeDocument/2006/relationships/hyperlink" Target="http://www.castles.me.uk/medieval-castle-architecture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Arial"/>
              </a:rPr>
              <a:t>MEDIEVAL REPORT</a:t>
            </a:r>
            <a:br>
              <a:rPr sz="4800"/>
            </a:b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ffcc"/>
                </a:solidFill>
                <a:latin typeface="Arial"/>
              </a:rPr>
              <a:t>Architectur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aeja Langst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bliography for POWERPOIN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"Castle." Merriam Webster Dictionary. QA international 2008. Web. 26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1"/>
              </a:rPr>
              <a:t>http://visual.merriam-webster.com/arts-architecture/architecture/castle.ph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"Medieval Castle Architecture." </a:t>
            </a:r>
            <a:r>
              <a:rPr b="0" i="1" lang="en-US" sz="2100" spc="-1" strike="noStrike">
                <a:solidFill>
                  <a:srgbClr val="ffffff"/>
                </a:solidFill>
                <a:latin typeface="Verdana"/>
              </a:rPr>
              <a:t>Castles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. Web. 27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2"/>
              </a:rPr>
              <a:t>http://www.castles.me.uk/medieval-castle-architecture.htm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id, Richard. The Book of Buildings. Chicago: Rand McNally and Co., 1980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venson, Neil. Architecture. New York: Dorling Kendersley, 1997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As Time Moves On…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varied castle architecture covered the following periods of English History from 1066 - 1603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Impact"/>
              </a:rPr>
              <a:t>Romanesque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Normans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ccff33"/>
                </a:solidFill>
                <a:latin typeface="Kristen ITC"/>
              </a:rPr>
              <a:t>Edwardian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Concentric Cast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ccff33"/>
                </a:solidFill>
                <a:latin typeface="Bauhaus 93"/>
              </a:rPr>
              <a:t>Gothic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style of Architecture of Plantagenet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Norm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corners of the Square Keeps featured in Medieval Norman architecture were </a:t>
            </a:r>
            <a:r>
              <a:rPr b="1" lang="en-US" sz="2400" spc="-1" strike="noStrike">
                <a:solidFill>
                  <a:srgbClr val="00ffcc"/>
                </a:solidFill>
                <a:latin typeface="Wide Latin"/>
              </a:rPr>
              <a:t>fragi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and at risk of collapse due to mining techniques employed by attacker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re was only one </a:t>
            </a:r>
            <a:r>
              <a:rPr b="1" lang="en-US" sz="3600" spc="-1" strike="noStrike">
                <a:solidFill>
                  <a:srgbClr val="00ffcc"/>
                </a:solidFill>
                <a:latin typeface="Stencil"/>
              </a:rPr>
              <a:t>defensive wal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Medieval Architecture featured in the Norman Castles were </a:t>
            </a:r>
            <a:r>
              <a:rPr b="1" lang="en-US" sz="2000" spc="-1" strike="noStrike">
                <a:solidFill>
                  <a:srgbClr val="ccff33"/>
                </a:solidFill>
                <a:latin typeface="Verdana"/>
              </a:rPr>
              <a:t>extremely uncomfortab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– 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DARK,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dank and col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Norman Castles were particularly at risk from blockade warfa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905120" y="152280"/>
            <a:ext cx="523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rman Architectu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Edwardi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Welsh Medieval Castles built by the Plantagenet King Edward I are examples of the Edwardian Medieval Architec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odernizations of Medieval Castle Architecture are demonstrated in the design of the </a:t>
            </a:r>
            <a:r>
              <a:rPr b="0" lang="en-US" sz="3200" spc="-1" strike="noStrike">
                <a:solidFill>
                  <a:srgbClr val="ccff33"/>
                </a:solidFill>
                <a:latin typeface="Forte"/>
              </a:rPr>
              <a:t>Concentric Castles.</a:t>
            </a:r>
            <a:r>
              <a:rPr b="0" lang="en-US" sz="2000" spc="-1" strike="noStrike">
                <a:solidFill>
                  <a:srgbClr val="ccff33"/>
                </a:solidFill>
                <a:latin typeface="Verdana"/>
              </a:rPr>
              <a:t> 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A good description of a Concentric Castle is "a Castle within a Castle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edieval architecture of the concentric castles was lots of buildings, walls,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and gatehouses in one massive Medieval castle complex built within in successive lines of defense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05720" y="3962520"/>
            <a:ext cx="1143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ff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itannic Bold"/>
              </a:rPr>
              <a:t>to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ccff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itannic Bold"/>
              <a:ea typeface="Britannic Bold"/>
            </a:endParaRPr>
          </a:p>
        </p:txBody>
      </p:sp>
    </p:spTree>
  </p:cSld>
  <p:transition spd="slow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Edwardian Castles cont’d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In the classic video game, </a:t>
            </a: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Mario World</a:t>
            </a: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, Mario blows up castles that much resemble Edwardian castles during the Medieval Tim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65760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Gothic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Gothic architecture is the term used to describe the building styles which were used in the Medieval years from </a:t>
            </a:r>
            <a:r>
              <a:rPr b="1" lang="en-US" sz="3600" spc="-1" strike="noStrike">
                <a:solidFill>
                  <a:srgbClr val="ccff33"/>
                </a:solidFill>
                <a:latin typeface="Juice ITC"/>
              </a:rPr>
              <a:t>1200 to 1500.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The variety of Gothic Architecture styles are divided into  three phase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200 to 1300 - </a:t>
            </a:r>
            <a:r>
              <a:rPr b="1" lang="en-US" sz="2800" spc="-1" strike="noStrike">
                <a:solidFill>
                  <a:srgbClr val="ccff33"/>
                </a:solidFill>
                <a:latin typeface="Stencil"/>
              </a:rPr>
              <a:t>Early English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( also called Lancet 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300 to 1400 - </a:t>
            </a:r>
            <a:r>
              <a:rPr b="0" lang="en-US" sz="2800" spc="-1" strike="noStrike">
                <a:solidFill>
                  <a:srgbClr val="ccff33"/>
                </a:solidFill>
                <a:latin typeface="Ravie"/>
              </a:rPr>
              <a:t>Decorated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400 to 1500 - </a:t>
            </a:r>
            <a:r>
              <a:rPr b="1" lang="en-US" sz="2400" spc="-1" strike="noStrike">
                <a:solidFill>
                  <a:srgbClr val="ccff33"/>
                </a:solidFill>
                <a:latin typeface="Castellar"/>
              </a:rPr>
              <a:t>Perpendicular Gothic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grayscl/>
            <a:lum bright="10000"/>
          </a:blip>
          <a:stretch/>
        </p:blipFill>
        <p:spPr>
          <a:xfrm>
            <a:off x="0" y="10666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133720" y="304920"/>
            <a:ext cx="44863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Gothic Architecture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2:28:49Z</dcterms:created>
  <dc:creator>Adriene Kinnaird</dc:creator>
  <dc:description/>
  <dc:language>en-US</dc:language>
  <cp:lastModifiedBy>Adriene Kinnaird</cp:lastModifiedBy>
  <dcterms:modified xsi:type="dcterms:W3CDTF">2009-09-27T19:41:44Z</dcterms:modified>
  <cp:revision>8</cp:revision>
  <dc:subject/>
  <dc:title>MEDIEVAL REPORT    Architecture        Daeja Langston</dc:title>
</cp:coreProperties>
</file>