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413-6DE0-4B46-9C1F-1FAB87DC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B51-0DB7-47F5-9BC6-E36B25B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0BC-D6F8-46FD-A390-5C3E8790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734-DFB8-4F35-B1CA-DCA1048B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410-5931-4DC9-BE3A-3DC3421F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7455-0B0D-45EB-A7BE-194045D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17F-2F16-4643-8EE0-5C4676A4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303-0B28-43ED-9FB4-CB34D3E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A68-6828-4066-88F0-8DCC9DB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7C5-5BC0-4FC5-8E99-70B20C78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C24D-D4C5-4C91-AA44-4F1E137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FCD-D62E-49B5-AA28-4A903A82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70D6-CB8E-42A0-8815-F489E6DC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18A8-A78D-428A-A3D8-2F4F8C6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68F1-7E17-4FA7-AFE6-BF8E9F6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2237-6BF8-40B8-9DB9-C502F6A9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DF5-CBAE-4C52-97F7-B207686A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081-BA54-4892-A045-A9B8EB5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DCC-45B9-4E41-912E-7D386F7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DEB-FF73-429C-B30F-7C0A78F9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C55-8584-41BF-BD8F-37B61011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FE3-2FD0-4D41-ACA3-1AE0989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E80-C6BD-42A1-AA3B-CDA52CC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14B-7D55-4380-8869-B52868E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DB60-09E3-4C71-AC01-2375F055D8B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CC33-1642-4AB9-A40C-FB4F91D43B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isual.merriam-webster.com/arts-architecture/architecture/castle.php" TargetMode="External"/><Relationship Id="rId2" Type="http://schemas.openxmlformats.org/officeDocument/2006/relationships/hyperlink" Target="http://www.castles.me.uk/medieval-castle-architectur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MEDIEVAL REPORT</a:t>
            </a:r>
            <a:br>
              <a:rPr sz="4800"/>
            </a:b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ffcc"/>
                </a:solidFill>
                <a:latin typeface="Arial"/>
              </a:rPr>
              <a:t>Architectur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aeja Langst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bliography for POWERPOI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"Castle." Merriam Webster Dictionary. QA international 2008. Web. 26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1"/>
              </a:rPr>
              <a:t>http://visual.merriam-webster.com/arts-architecture/architecture/castle.ph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"Medieval Castle Architecture." </a:t>
            </a: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Castles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. Web. 27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2"/>
              </a:rPr>
              <a:t>http://www.castles.me.uk/medieval-castle-architecture.htm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id, Richard. The Book of Buildings. Chicago: Rand McNally and Co., 1980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venson, Neil. Architecture. New York: Dorling Kendersley, 1997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As Time Moves On…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varied castle architecture covered the following periods of English History from 1066 - 1603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Impact"/>
              </a:rPr>
              <a:t>Romanesque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Normans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ccff33"/>
                </a:solidFill>
                <a:latin typeface="Kristen ITC"/>
              </a:rPr>
              <a:t>Edwardian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Concentric Cast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ccff33"/>
                </a:solidFill>
                <a:latin typeface="Bauhaus 93"/>
              </a:rPr>
              <a:t>Gothic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style of Architecture of Plantagenet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Norm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corners of the Square Keeps featured in Medieval Norman architecture were </a:t>
            </a:r>
            <a:r>
              <a:rPr b="1" lang="en-US" sz="2400" spc="-1" strike="noStrike">
                <a:solidFill>
                  <a:srgbClr val="00ffcc"/>
                </a:solidFill>
                <a:latin typeface="Wide Latin"/>
              </a:rPr>
              <a:t>fragi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and at risk of collapse due to mining techniques employed by attacker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re was only one </a:t>
            </a:r>
            <a:r>
              <a:rPr b="1" lang="en-US" sz="3600" spc="-1" strike="noStrike">
                <a:solidFill>
                  <a:srgbClr val="00ffcc"/>
                </a:solidFill>
                <a:latin typeface="Stencil"/>
              </a:rPr>
              <a:t>defensive wa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Medieval Architecture featured in the Norman Castles were </a:t>
            </a:r>
            <a:r>
              <a:rPr b="1" lang="en-US" sz="2000" spc="-1" strike="noStrike">
                <a:solidFill>
                  <a:srgbClr val="ccff33"/>
                </a:solidFill>
                <a:latin typeface="Verdana"/>
              </a:rPr>
              <a:t>extremely uncomfortab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– 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DARK,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dank and col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Norman Castles were particularly at risk from blockade warf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5120" y="152280"/>
            <a:ext cx="523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rman Architect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Edwardi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Welsh Medieval Castles built by the Plantagenet King Edward I are examples of the Edwardian Medieval Architec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odernizations of Medieval Castle Architecture are demonstrated in the design of the </a:t>
            </a:r>
            <a:r>
              <a:rPr b="0" lang="en-US" sz="3200" spc="-1" strike="noStrike">
                <a:solidFill>
                  <a:srgbClr val="ccff33"/>
                </a:solidFill>
                <a:latin typeface="Forte"/>
              </a:rPr>
              <a:t>Concentric Castles.</a:t>
            </a:r>
            <a:r>
              <a:rPr b="0" lang="en-US" sz="2000" spc="-1" strike="noStrike">
                <a:solidFill>
                  <a:srgbClr val="ccff33"/>
                </a:solidFill>
                <a:latin typeface="Verdana"/>
              </a:rPr>
              <a:t> 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A good description of a Concentric Castle is "a Castle within a Castle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edieval architecture of the concentric castles was lots of buildings, walls,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and gatehouses in one massive Medieval castle complex built within in successive lines of defense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3962520"/>
            <a:ext cx="1143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ff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itannic Bold"/>
              </a:rPr>
              <a:t>to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cff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Edwardian Castles cont’d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In the classic video game, </a:t>
            </a: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Mario World</a:t>
            </a: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, Mario blows up castles that much resemble Edwardian castles during the Medieval Tim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Gothic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Gothic architecture is the term used to describe the building styles which were used in the Medieval years from </a:t>
            </a:r>
            <a:r>
              <a:rPr b="1" lang="en-US" sz="3600" spc="-1" strike="noStrike">
                <a:solidFill>
                  <a:srgbClr val="ccff33"/>
                </a:solidFill>
                <a:latin typeface="Juice ITC"/>
              </a:rPr>
              <a:t>1200 to 1500.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The variety of Gothic Architecture styles are divided into  three phas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200 to 1300 - </a:t>
            </a:r>
            <a:r>
              <a:rPr b="1" lang="en-US" sz="2800" spc="-1" strike="noStrike">
                <a:solidFill>
                  <a:srgbClr val="ccff33"/>
                </a:solidFill>
                <a:latin typeface="Stencil"/>
              </a:rPr>
              <a:t>Early English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( also called Lancet 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300 to 1400 - </a:t>
            </a:r>
            <a:r>
              <a:rPr b="0" lang="en-US" sz="2800" spc="-1" strike="noStrike">
                <a:solidFill>
                  <a:srgbClr val="ccff33"/>
                </a:solidFill>
                <a:latin typeface="Ravie"/>
              </a:rPr>
              <a:t>Decorated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400 to 1500 - </a:t>
            </a:r>
            <a:r>
              <a:rPr b="1" lang="en-US" sz="2400" spc="-1" strike="noStrike">
                <a:solidFill>
                  <a:srgbClr val="ccff33"/>
                </a:solidFill>
                <a:latin typeface="Castellar"/>
              </a:rPr>
              <a:t>Perpendicular Gothic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  <a:lum bright="10000"/>
          </a:blip>
          <a:stretch/>
        </p:blipFill>
        <p:spPr>
          <a:xfrm>
            <a:off x="0" y="10666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133720" y="304920"/>
            <a:ext cx="4486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Gothic Architecture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2:28:49Z</dcterms:created>
  <dc:creator>Adriene Kinnaird</dc:creator>
  <dc:description/>
  <dc:language>en-US</dc:language>
  <cp:lastModifiedBy>Adriene Kinnaird</cp:lastModifiedBy>
  <dcterms:modified xsi:type="dcterms:W3CDTF">2009-09-27T19:41:44Z</dcterms:modified>
  <cp:revision>8</cp:revision>
  <dc:subject/>
  <dc:title>MEDIEVAL REPORT    Architecture        Daeja Langston</dc:title>
</cp:coreProperties>
</file>