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DD7-E568-4491-BAA4-1DF62DA4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AAC-A8BA-43F5-8013-8F01800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10B-FE1C-427B-A0D7-5B7AD515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19B-BEE8-48E0-9EF7-29514F17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3D5-6C05-49FB-AAD3-ACA9833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FDCC-81D1-4ACB-8EBD-DCE23FD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95F-F051-414A-B68A-F64B9DF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D45-5ACC-4383-AB3D-44CE1B2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22F7-A4E5-4A2F-BAAC-372EB30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4537-FB81-4106-8BAB-E3DED5C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391E-AAA6-45E2-824E-37BAA4E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4FD-EDDE-4ACD-8F38-583EBB55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235-0A37-466A-AD9E-6F9B691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39D-7968-4310-B85E-9CD169E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675D-420E-497A-8679-DB6D789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087-BF51-4E7B-857B-942833B8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13D4-7AE2-43A0-BD70-4CEF969A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CCD-C096-446B-8FE2-9B3BA87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48-E9A8-482C-B18E-6EF79BD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284-9712-40E9-9A7D-72A9E4E3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481-D6F3-4D5B-BB50-83C5F25A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0C9-E43A-4446-B8B2-E33F4C89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357-CD39-466A-ABB5-8884D6A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EA3-579C-46A6-B1EC-6A2E886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F68A-C369-4BA7-9094-8420E62448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C13-4714-4B9D-A0CC-E7A1DD6D41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isual.merriam-webster.com/arts-architecture/architecture/castle.php" TargetMode="External"/><Relationship Id="rId2" Type="http://schemas.openxmlformats.org/officeDocument/2006/relationships/hyperlink" Target="http://www.castles.me.uk/medieval-castle-architectur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MEDIEVAL REPORT</a:t>
            </a:r>
            <a:br>
              <a:rPr sz="4800"/>
            </a:b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ffcc"/>
                </a:solidFill>
                <a:latin typeface="Arial"/>
              </a:rPr>
              <a:t>Architectur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aeja Langst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bliography for POWERPOIN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"Castle." Merriam Webster Dictionary. QA international 2008. Web. 26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1"/>
              </a:rPr>
              <a:t>http://visual.merriam-webster.com/arts-architecture/architecture/castle.ph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"Medieval Castle Architecture." </a:t>
            </a:r>
            <a:r>
              <a:rPr b="0" i="1" lang="en-US" sz="2100" spc="-1" strike="noStrike">
                <a:solidFill>
                  <a:srgbClr val="ffffff"/>
                </a:solidFill>
                <a:latin typeface="Verdana"/>
              </a:rPr>
              <a:t>Castles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. Web. 27 Sept. 2009. </a:t>
            </a:r>
            <a:r>
              <a:rPr b="0" lang="en-US" sz="2100" spc="-1" strike="noStrike" u="sng">
                <a:solidFill>
                  <a:srgbClr val="336600"/>
                </a:solidFill>
                <a:uFillTx/>
                <a:latin typeface="Verdana"/>
                <a:hlinkClick r:id="rId2"/>
              </a:rPr>
              <a:t>http://www.castles.me.uk/medieval-castle-architecture.htm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id, Richard. The Book of Buildings. Chicago: Rand McNally and Co., 1980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venson, Neil. Architecture. New York: Dorling Kendersley, 1997. Pri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As Time Moves On…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varied castle architecture covered the following periods of English History from 1066 - 1603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Impact"/>
              </a:rPr>
              <a:t>Romanesque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Normans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ccff33"/>
                </a:solidFill>
                <a:latin typeface="Kristen ITC"/>
              </a:rPr>
              <a:t>Edwardian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Architecture of the Concentric Cast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ccff33"/>
                </a:solidFill>
                <a:latin typeface="Bauhaus 93"/>
              </a:rPr>
              <a:t>Gothic Medieval</a:t>
            </a:r>
            <a:r>
              <a:rPr b="1" lang="en-US" sz="2500" spc="-1" strike="noStrike">
                <a:solidFill>
                  <a:srgbClr val="00ffcc"/>
                </a:solidFill>
                <a:latin typeface="Verdana"/>
              </a:rPr>
              <a:t> style of Architecture of Plantagenet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Norm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corners of the Square Keeps featured in Medieval Norman architecture were </a:t>
            </a:r>
            <a:r>
              <a:rPr b="1" lang="en-US" sz="2400" spc="-1" strike="noStrike">
                <a:solidFill>
                  <a:srgbClr val="00ffcc"/>
                </a:solidFill>
                <a:latin typeface="Wide Latin"/>
              </a:rPr>
              <a:t>fragi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and at risk of collapse due to mining techniques employed by attacker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re was only one </a:t>
            </a:r>
            <a:r>
              <a:rPr b="1" lang="en-US" sz="3600" spc="-1" strike="noStrike">
                <a:solidFill>
                  <a:srgbClr val="00ffcc"/>
                </a:solidFill>
                <a:latin typeface="Stencil"/>
              </a:rPr>
              <a:t>defensive wa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The Medieval Architecture featured in the Norman Castles were </a:t>
            </a:r>
            <a:r>
              <a:rPr b="1" lang="en-US" sz="2000" spc="-1" strike="noStrike">
                <a:solidFill>
                  <a:srgbClr val="ccff33"/>
                </a:solidFill>
                <a:latin typeface="Verdana"/>
              </a:rPr>
              <a:t>extremely uncomfortable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– 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DARK,</a:t>
            </a: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 dank and col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ff33"/>
                </a:solidFill>
                <a:latin typeface="Verdana"/>
              </a:rPr>
              <a:t>Norman Castles were particularly at risk from blockade warf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5120" y="152280"/>
            <a:ext cx="523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rman Architect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Edwardian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Welsh Medieval Castles built by the Plantagenet King Edward I are examples of the Edwardian Medieval Architec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odernizations of Medieval Castle Architecture are demonstrated in the design of the </a:t>
            </a:r>
            <a:r>
              <a:rPr b="0" lang="en-US" sz="3200" spc="-1" strike="noStrike">
                <a:solidFill>
                  <a:srgbClr val="ccff33"/>
                </a:solidFill>
                <a:latin typeface="Forte"/>
              </a:rPr>
              <a:t>Concentric Castles.</a:t>
            </a:r>
            <a:r>
              <a:rPr b="0" lang="en-US" sz="2000" spc="-1" strike="noStrike">
                <a:solidFill>
                  <a:srgbClr val="ccff33"/>
                </a:solidFill>
                <a:latin typeface="Verdana"/>
              </a:rPr>
              <a:t> 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A good description of a Concentric Castle is "a Castle within a Castle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The Medieval architecture of the concentric castles was lots of buildings, walls,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ffcc"/>
                </a:solidFill>
                <a:latin typeface="Verdana"/>
              </a:rPr>
              <a:t>and gatehouses in one massive Medieval castle complex built within in successive lines of defense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3962520"/>
            <a:ext cx="1143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ff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itannic Bold"/>
              </a:rPr>
              <a:t>to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ccff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Edwardian Castles cont’d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In the classic video game, </a:t>
            </a:r>
            <a:r>
              <a:rPr b="1" lang="en-US" sz="2500" spc="-1" strike="noStrike">
                <a:solidFill>
                  <a:srgbClr val="ccff33"/>
                </a:solidFill>
                <a:latin typeface="Verdana"/>
              </a:rPr>
              <a:t>Mario World</a:t>
            </a:r>
            <a:r>
              <a:rPr b="0" lang="en-US" sz="2500" spc="-1" strike="noStrike">
                <a:solidFill>
                  <a:srgbClr val="ccff33"/>
                </a:solidFill>
                <a:latin typeface="Verdana"/>
              </a:rPr>
              <a:t>, Mario blows up castles that much resemble Edwardian castles during the Medieval Tim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Gothic Architectu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Gothic architecture is the term used to describe the building styles which were used in the Medieval years from </a:t>
            </a:r>
            <a:r>
              <a:rPr b="1" lang="en-US" sz="3600" spc="-1" strike="noStrike">
                <a:solidFill>
                  <a:srgbClr val="ccff33"/>
                </a:solidFill>
                <a:latin typeface="Juice ITC"/>
              </a:rPr>
              <a:t>1200 to 1500.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The variety of Gothic Architecture styles are divided into  three phas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200 to 1300 - </a:t>
            </a:r>
            <a:r>
              <a:rPr b="1" lang="en-US" sz="2800" spc="-1" strike="noStrike">
                <a:solidFill>
                  <a:srgbClr val="ccff33"/>
                </a:solidFill>
                <a:latin typeface="Stencil"/>
              </a:rPr>
              <a:t>Early English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( also called Lancet 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300 to 1400 - </a:t>
            </a:r>
            <a:r>
              <a:rPr b="0" lang="en-US" sz="2800" spc="-1" strike="noStrike">
                <a:solidFill>
                  <a:srgbClr val="ccff33"/>
                </a:solidFill>
                <a:latin typeface="Ravie"/>
              </a:rPr>
              <a:t>Decorated Gothic Style</a:t>
            </a: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cc"/>
                </a:solidFill>
                <a:latin typeface="Verdana"/>
              </a:rPr>
              <a:t>Medieval Castle Architecture - 1400 to 1500 - </a:t>
            </a:r>
            <a:r>
              <a:rPr b="1" lang="en-US" sz="2400" spc="-1" strike="noStrike">
                <a:solidFill>
                  <a:srgbClr val="ccff33"/>
                </a:solidFill>
                <a:latin typeface="Castellar"/>
              </a:rPr>
              <a:t>Perpendicular Gothic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  <a:lum bright="10000"/>
          </a:blip>
          <a:stretch/>
        </p:blipFill>
        <p:spPr>
          <a:xfrm>
            <a:off x="0" y="10666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133720" y="304920"/>
            <a:ext cx="4486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Gothic Architecture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2:28:49Z</dcterms:created>
  <dc:creator>Adriene Kinnaird</dc:creator>
  <dc:description/>
  <dc:language>en-US</dc:language>
  <cp:lastModifiedBy>Adriene Kinnaird</cp:lastModifiedBy>
  <dcterms:modified xsi:type="dcterms:W3CDTF">2009-09-27T19:41:44Z</dcterms:modified>
  <cp:revision>8</cp:revision>
  <dc:subject/>
  <dc:title>MEDIEVAL REPORT    Architecture        Daeja Langston</dc:title>
</cp:coreProperties>
</file>