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1FA-6B24-45BD-9AF2-1D4FEA38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AE3-DE50-4385-9024-F842FD58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F0D-46BD-407E-BD79-A8D37907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3F2-B6E4-472E-A46F-4401D6E9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1AB-1629-4C15-BEC4-2CC1ED0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3E6-F4C4-4EFC-B02A-1807D4C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E3F-CBEF-4B41-9653-6EECDAB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E2C-3FC2-46D4-941F-691BDE7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D4A-FA25-4142-B99F-BA67769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240-7CA0-4EAF-A13D-925CCE1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4C2-CDAB-47A3-99D5-19D5916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E29-D001-4199-8CBD-7BF72A4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1500-E976-4BA3-A35A-ABDA55DE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stakingly-adv.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2901960" cy="256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0T22:27:18Z</dcterms:modified>
  <cp:revision>6</cp:revision>
  <dc:subject/>
  <dc:title>Painstakingly</dc:title>
</cp:coreProperties>
</file>