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664-48D9-487B-B05F-FC0A792B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A90-21EF-4BE2-A0BA-C74EFC83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DF7-1B24-4DC3-896F-FD8AFF3F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4FD-DA19-4377-AFD3-20081150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037-E7C6-404E-8F5E-A429DA98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7D0-814F-4A50-B81B-F6565257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66D-0639-4455-9F8F-E37A74BF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1CE-E682-4DA9-ADDE-2E1BCE04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352-E6B8-4F2B-A388-588DF740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40B-496C-4C20-9031-82ADE72E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182-68FB-409F-9F16-55EC28AE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12C-4825-4EA2-94CA-9A1F202E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8C27-F36E-46E8-90D9-2C2D6BFF4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nstaki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stakingly-adv.- Marked by or requiring great pains; very careful and di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instaki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researched the topic for hours so that my essay would be astonis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5640" y="3860640"/>
            <a:ext cx="2901960" cy="256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0T22:27:18Z</dcterms:modified>
  <cp:revision>6</cp:revision>
  <dc:subject/>
  <dc:title>Painstakingly</dc:title>
</cp:coreProperties>
</file>