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D1D0-1D1E-4DED-8211-910157FFB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A46D-FD43-491F-BDEE-FD21E655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F591-C8C8-4591-8F86-E5C4D51F3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F826-5B02-4B78-8FDF-EA7FE52B5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D4BD-B67F-4661-8871-0B2DBDF0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7CAF-BB0B-4001-9183-D465C5F3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7F0D-A5A3-4109-AE9B-C857B7D6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8A81-36DF-4BBC-BBCF-E57444F4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3628-460E-489B-BE67-0E6D3A58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AA90-8AFF-4AAF-99DD-43922B0B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3ECA-ED50-40B7-B8F3-4FF4A6E1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9743-1A26-4E22-AA78-4554D753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04C4-FDFC-4CDD-8825-3C93A3A38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instaking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stakingly-adv.- Marked by or requiring great pains; very careful and dilig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instaking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 researched the topic for hours so that my essay would be astonis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195640" y="3860640"/>
            <a:ext cx="2901960" cy="2562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23:15:19Z</dcterms:created>
  <dc:creator>Emma</dc:creator>
  <dc:description/>
  <dc:language>en-US</dc:language>
  <cp:lastModifiedBy>Emma</cp:lastModifiedBy>
  <dcterms:modified xsi:type="dcterms:W3CDTF">2010-01-20T22:27:18Z</dcterms:modified>
  <cp:revision>6</cp:revision>
  <dc:subject/>
  <dc:title>Painstakingly</dc:title>
</cp:coreProperties>
</file>