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93F-CEA9-48FF-ADBC-CEEAF192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E4B-7A53-4CDE-AA96-47568DCA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B53-152E-4293-B147-580308E5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BC6-25E5-4921-9ECD-C09973D8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B34-F3D7-42CC-81D1-6BABE094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5DD-0A66-4532-9E37-84DF5280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CFC7-5DDF-43BF-8B4C-072F3118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5EF7-1B03-4803-B39F-E3C4D183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38C-C89A-425B-9882-9CDFBCB4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2E3-630F-466E-B7A9-4BB5BFFC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B18-B129-4330-AD99-0F69D413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6C2-FEF7-43E8-8CEC-D4629789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337C-5012-41E7-8949-7FFEDC74A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instaking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stakingly-adv.- Marked by or requiring great pains; very careful and dilig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instaking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 researched the topic for hours so that my essay would be astonis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95640" y="3860640"/>
            <a:ext cx="2901960" cy="2562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23:15:19Z</dcterms:created>
  <dc:creator>Emma</dc:creator>
  <dc:description/>
  <dc:language>en-US</dc:language>
  <cp:lastModifiedBy>Emma</cp:lastModifiedBy>
  <dcterms:modified xsi:type="dcterms:W3CDTF">2010-01-20T22:27:18Z</dcterms:modified>
  <cp:revision>6</cp:revision>
  <dc:subject/>
  <dc:title>Painstakingly</dc:title>
</cp:coreProperties>
</file>