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D5C-7CF8-42C3-A280-B1C45184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D23-4B11-48A7-871C-B9658427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737-0E6C-435B-8691-27B70D9E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488-64DE-4670-AB8E-4AD690A7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E3F-5095-4347-B6C5-FB6B7340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90C-CEEA-4EEF-B9D2-61F6C46B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559-2232-4166-A380-6B7F2612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F6A-3B26-4A61-97A9-896A45F9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83E-44DE-4855-A742-E26A1576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1DE-7537-4E6E-A410-F84FE3AA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0BD-EFCE-42E4-8820-DF9F7388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EE2-6137-4B97-8A11-75FD3DE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3BA8-84AB-442C-9B59-0FD07322D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nstaki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stakingly-adv.- Marked by or requiring great pains; very careful and dili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instaki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 researched the topic for hours so that my essay would be astonis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5640" y="3860640"/>
            <a:ext cx="2901960" cy="256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20T22:27:18Z</dcterms:modified>
  <cp:revision>6</cp:revision>
  <dc:subject/>
  <dc:title>Painstakingly</dc:title>
</cp:coreProperties>
</file>