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CC1-8565-4CC7-B630-1C56B3D0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ED5-FB7B-4E5A-9A97-690068D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E21-35B1-46CD-B917-73BF0071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B50-D68C-4A5A-901C-34579E08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A27-2103-41EF-8FC2-9823254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DBA-4D7D-4E3A-B847-27098B6A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429-6843-4263-8313-79725ACC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007-0B00-4517-9BE5-A5556C89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A44-4C68-4D8A-98E2-CAC64D1F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D04-C7BF-4867-AF05-61DD221C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A37-B667-4FC8-A08A-B983C5F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041-7016-422F-8B43-596F23B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C7D9-9059-44E8-AACA-689812289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stakingly-adv.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2901960" cy="256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0T22:27:18Z</dcterms:modified>
  <cp:revision>6</cp:revision>
  <dc:subject/>
  <dc:title>Painstakingly</dc:title>
</cp:coreProperties>
</file>