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F9B2-9CB5-44F9-8753-329B54B2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CC1-7E87-49A5-9AF9-2909EC23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7AC-C444-4928-9AA5-C896CB93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B69-29A7-4A47-8FA6-337DA4C6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AF3-AB1D-4A53-B71C-9DEE6344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F56-DB5E-49AD-9DCD-5CAA96DF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068-CFAE-4D05-8D0D-0BD2B42E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9A7-77AA-4833-B7B0-002BEB09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CDC-30ED-4C10-94A3-21E83D8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F2A-A1E4-413D-90B7-BF382668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5E7-1217-49B1-B21E-19707F36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841-364C-4B3B-B0E1-AB5E061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002-5B67-4084-81FD-C996FB0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0B5-AF1E-437E-9C03-B1EA14DB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141B-663D-440A-8FEA-496BABD1D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27432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d man took a vow of silence to join the circus to pantom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omime- [pan-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ahym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rt or technique of conveying emotions, actions, feelings, etc., by gestures without speec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enchMime"/>
          <p:cNvPicPr/>
          <p:nvPr/>
        </p:nvPicPr>
        <p:blipFill>
          <a:blip r:embed="rId1"/>
          <a:stretch/>
        </p:blipFill>
        <p:spPr>
          <a:xfrm>
            <a:off x="1828800" y="533520"/>
            <a:ext cx="24084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2:55:38Z</dcterms:created>
  <dc:creator>Blanz</dc:creator>
  <dc:description/>
  <dc:language>en-US</dc:language>
  <cp:lastModifiedBy>GACS</cp:lastModifiedBy>
  <dcterms:modified xsi:type="dcterms:W3CDTF">2010-01-19T13:59:23Z</dcterms:modified>
  <cp:revision>3</cp:revision>
  <dc:subject/>
  <dc:title>Slide 1</dc:title>
</cp:coreProperties>
</file>