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E2F7-7AF2-4C98-821D-DA636B0C4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3C93-1DCE-46A0-A1B6-41C1231DB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327-669D-453E-9FAB-6AADE116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A07-A5AA-4BFB-A569-CA8AEA9F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C96-0845-47F8-8AD3-C0533AA1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2F5-F98C-413D-A611-A8469927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296-0D74-4CAB-940A-FAAF363B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325-C6CF-49FA-9A37-68E462F2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864-44D3-4B3A-89CF-3C0F26E8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EFA-0DE3-4713-BDD6-C419C5C1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71E-8D06-48DF-9D11-FC2FE610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EEC-A521-43E4-B8D5-0EAEDF0A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75A-3612-4EE5-91CB-C989B0AF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274-5302-40FF-92D3-CEED78F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902D-90AC-4937-81B0-43E98A8C9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5000" y="1142640"/>
            <a:ext cx="27432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d man took a vow of silence to join the circus to pantom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tomime- [pan-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ahym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rt or technique of conveying emotions, actions, feelings, etc., by gestures without speec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renchMime"/>
          <p:cNvPicPr/>
          <p:nvPr/>
        </p:nvPicPr>
        <p:blipFill>
          <a:blip r:embed="rId1"/>
          <a:stretch/>
        </p:blipFill>
        <p:spPr>
          <a:xfrm>
            <a:off x="1828800" y="533520"/>
            <a:ext cx="24084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2:55:38Z</dcterms:created>
  <dc:creator>Blanz</dc:creator>
  <dc:description/>
  <dc:language>en-US</dc:language>
  <cp:lastModifiedBy>GACS</cp:lastModifiedBy>
  <dcterms:modified xsi:type="dcterms:W3CDTF">2010-01-19T13:59:23Z</dcterms:modified>
  <cp:revision>3</cp:revision>
  <dc:subject/>
  <dc:title>Slide 1</dc:title>
</cp:coreProperties>
</file>