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437E-CCE7-47B1-ABE0-0B0CE1CD1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CD83-D926-4D2A-9ABF-EEDADA910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8FF0-D4D7-48C9-97F0-19CB74B27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DA35-5962-49F9-A813-56C60EC9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1185-9691-441F-AF87-A6F3D25B4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309A-0192-4B35-A4EB-1AF42D46F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052D-C3D3-4305-AB88-6A476FFA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11F0-76DB-4BDD-8D9C-8EF299ED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180F-E6CC-43DE-A966-5318108A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C53F-B63C-44AC-B28A-D7221373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12F6-8525-41F9-9D48-CF279836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5F84-BDE3-4E51-B424-4E771276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4559-BAEC-4196-AEA6-D25C94DA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5F85-CF77-47C8-9931-F37A9F64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A7AF-CE52-4F32-9953-3C12E163F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5000" y="1142640"/>
            <a:ext cx="27432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ld man took a vow of silence to join the circus to pantom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tomime- [pan-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mahym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rt or technique of conveying emotions, actions, feelings, etc., by gestures without speech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FrenchMime"/>
          <p:cNvPicPr/>
          <p:nvPr/>
        </p:nvPicPr>
        <p:blipFill>
          <a:blip r:embed="rId1"/>
          <a:stretch/>
        </p:blipFill>
        <p:spPr>
          <a:xfrm>
            <a:off x="1828800" y="533520"/>
            <a:ext cx="240840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2:55:38Z</dcterms:created>
  <dc:creator>Blanz</dc:creator>
  <dc:description/>
  <dc:language>en-US</dc:language>
  <cp:lastModifiedBy>GACS</cp:lastModifiedBy>
  <dcterms:modified xsi:type="dcterms:W3CDTF">2010-01-19T13:59:23Z</dcterms:modified>
  <cp:revision>3</cp:revision>
  <dc:subject/>
  <dc:title>Slide 1</dc:title>
</cp:coreProperties>
</file>