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B598-D929-4E5E-AB74-10C2837E2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F72F-2BC4-4E52-9065-CBF139095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3646-8A5D-47E2-B110-0F96BF1C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3608-2AC0-43DE-A097-43CD32B9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4B91-4F3C-4268-AFBB-F9355A22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F2B3-6390-466D-A0C4-C09956C2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F088-E57C-459F-A6C0-E2E1438B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129-2793-4518-AF3B-38F4E50E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98CE-28A8-4F3C-8098-B06A8B31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BAFE-7282-49AF-AA67-1E1FA6D0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3993-E74D-4784-8294-9016A9BA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CBF2-1850-4727-BCB3-327A1C7B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5F4-5CD2-4C68-9A37-029DA658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789-9324-444A-A8A0-C79A351D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07A0-6CEF-470F-B905-A948FA665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5000" y="1142640"/>
            <a:ext cx="27432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ld man took a vow of silence to join the circus to pantom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tomime- [pan-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ahym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rt or technique of conveying emotions, actions, feelings, etc., by gestures without speech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renchMime"/>
          <p:cNvPicPr/>
          <p:nvPr/>
        </p:nvPicPr>
        <p:blipFill>
          <a:blip r:embed="rId1"/>
          <a:stretch/>
        </p:blipFill>
        <p:spPr>
          <a:xfrm>
            <a:off x="1828800" y="533520"/>
            <a:ext cx="24084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2:55:38Z</dcterms:created>
  <dc:creator>Blanz</dc:creator>
  <dc:description/>
  <dc:language>en-US</dc:language>
  <cp:lastModifiedBy>GACS</cp:lastModifiedBy>
  <dcterms:modified xsi:type="dcterms:W3CDTF">2010-01-19T13:59:23Z</dcterms:modified>
  <cp:revision>3</cp:revision>
  <dc:subject/>
  <dc:title>Slide 1</dc:title>
</cp:coreProperties>
</file>