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AF5-C49B-4309-BDBC-89B747BE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0E5-B6DA-4D7C-9C62-B0D4BC1C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755-9AE8-4D21-B120-0D80487D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366-5D8B-4E9F-B4AE-10231699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3A6-DAC3-4DF8-8644-36AAE6F1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0F87-0E42-455A-8009-5F80B536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B34D-852A-4D1B-A758-34E42BC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45DF-FA43-493B-883F-3C44B7E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69EB-919A-4EC5-9090-8E97036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6426-6DB1-4DEE-A5AE-A3237BA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A1B0-3785-4D74-9D91-82F1676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380-9414-4FD0-AAAC-E42F9F3C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9ACD-999B-45BB-9EAB-392E41E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C0B8-2A05-492F-95A6-6D0F762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AD33-8D05-4C58-A684-5DD469D5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515-E1E5-4699-AFAB-510128F7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B16-CEE6-413C-A029-97588C30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B382-F5B4-400C-9E96-20458E3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E665-6480-4D12-B508-DDB22099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A2A4-BBC4-4529-9C3A-20F605C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9E15-58E4-41AE-8E18-0509F7A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48B2-B849-4C70-9FEE-6276FA9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74B-E23B-4204-8C23-A3C11D9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F502-5290-402B-A860-6C1A3375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0F50-913B-481A-AD30-4660318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73EB-2147-42D3-AE45-00DCB4F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8B60-5E57-435A-8B39-F964ADE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7760-9103-415E-8DAB-276C0EF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2B19-8E65-4899-AFF0-8BF9BA0B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DC57-ACC8-42BF-ACCC-CC20434B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ED206-5EA4-4AD5-8B06-7B85B2A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B16DD-CA08-4107-8C23-46447E6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E0302-E3F2-465C-BB80-AC6EFA4F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1FB-D4A0-49B1-A2DB-7BD61AB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DD323-2DA7-43E4-9111-2E1E068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0ECE8-C681-4283-BA93-C681151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3B028-6D52-470B-B9C1-780D44D0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19F14-AF4D-415A-AA25-42A30BC9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5A2D4-125A-4A20-8DBB-A11B3CC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81C20-2ADE-4E60-9C9F-EFE5211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96ABC-BA30-448A-91D1-CDC2D5C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5C13B-0CA5-4266-B2D5-87A620A7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90E31-1E4A-4B36-9271-D30CDAC8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4CD9-6800-44D9-AE0B-0002C9DC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CB3-77AF-4AA9-81E9-970C98B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3530-AB95-4360-87EF-40485CB8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3BCB-8F4C-4378-90B8-D34F29B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B35F-07B7-4A8E-87FE-D21233A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8E09-EB81-4257-96A2-3A82814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505D6-FAFB-4C3C-BA9D-EB17941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A14A-1F34-4D07-B783-2C879C05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70FE-7373-43F8-9782-99A97B3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5863-3F25-4056-92D1-338C576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05F2-3AA9-4F60-84E4-F74CACC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7154-17C8-4DBA-8D94-C5923370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7A5-1748-46A1-A587-98E914E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41F6-75A7-4EE7-89B2-6BF2F03E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B95-43F6-4E0D-8394-70D2E03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B9E-604C-4742-881F-46F465F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015-90A3-4807-A34F-52C23EC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A01D-CC61-4C09-9F94-F2FE1899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129-8F87-4CC1-8EA9-3A5606EA52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BB12-82C0-4641-B67E-5F0A09C597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03F-2E8A-4BA8-A832-1A579808F0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7A6-4C36-409D-897F-16A6ABE442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lasaintgeorge.org/images/visor_prototype.jpg&amp;imgrefurl=http://www.scholasaintgeorge.org/equipment.html&amp;h=295&amp;w=450&amp;sz=19&amp;hl=en&amp;start=18&amp;um=1&amp;usg=__UqNRrcbNeXmg5eZm5wuxLM5bWXI=&amp;tbnid=A9uTIKEJZkhWuM:&amp;tbnh=83&amp;tbnw=127&amp;prev=/images%3Fq%3Dmedieval%2Bvisors%26um%3D1%26hl%3De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medievalarmor.com/armor/pigface-bascinet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evalarmor.com/armor/closed-salet-suit-of-armor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aabasreplicas.net/pcat-gifs/products-small/close-helmets2.jpg" TargetMode="External"/><Relationship Id="rId2" Type="http://schemas.openxmlformats.org/officeDocument/2006/relationships/hyperlink" Target="http://www.medievalarmor.com/" TargetMode="External"/><Relationship Id="rId3" Type="http://schemas.openxmlformats.org/officeDocument/2006/relationships/hyperlink" Target="http://sl-armours.com/eng/showitem/id,39/kettle-hat-xiii-c.html" TargetMode="External"/><Relationship Id="rId4" Type="http://schemas.openxmlformats.org/officeDocument/2006/relationships/hyperlink" Target="http://www.leader.gen.nz/medieval/cuir-bouilli/images/faceplate/061004%20helmet%20with%20faceplate%203-4s%20propped%20only.jpg" TargetMode="External"/><Relationship Id="rId5" Type="http://schemas.openxmlformats.org/officeDocument/2006/relationships/hyperlink" Target="http://www.scholasaintgeorge.org/images/visor_prototype.jpg" TargetMode="External"/><Relationship Id="rId6" Type="http://schemas.openxmlformats.org/officeDocument/2006/relationships/hyperlink" Target="http://www.weaponsemporium.com/WE-Chain%20Mail%20Shirt%20&amp;%20Coif.jpg" TargetMode="External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rksword-armory.com/images/1703.jpg" TargetMode="External"/><Relationship Id="rId2" Type="http://schemas.openxmlformats.org/officeDocument/2006/relationships/hyperlink" Target="http://blogofwishes.com/wp-content/uploads/2007/08/chain_mail_tshirt_2.jpg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ared Ch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1523880"/>
            <a:ext cx="7238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lmet sha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medieval-chain-mail-armor.com/images/H237_Corinthian_Helmet.JPG"/>
          <p:cNvPicPr/>
          <p:nvPr/>
        </p:nvPicPr>
        <p:blipFill>
          <a:blip r:embed="rId1"/>
          <a:stretch/>
        </p:blipFill>
        <p:spPr>
          <a:xfrm>
            <a:off x="533520" y="1752480"/>
            <a:ext cx="2286000" cy="3571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97180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round topped helm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http://www.shaabasreplicas.net/pcat-gifs/products-small/close-helmets2.jpg"/>
          <p:cNvPicPr/>
          <p:nvPr/>
        </p:nvPicPr>
        <p:blipFill>
          <a:blip r:embed="rId2"/>
          <a:stretch/>
        </p:blipFill>
        <p:spPr>
          <a:xfrm>
            <a:off x="5334120" y="1600200"/>
            <a:ext cx="3200400" cy="3162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5562720" y="51814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a crowned/ pointed hel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4267080" cy="3276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German knight armor sallet helm"/>
          <p:cNvPicPr/>
          <p:nvPr/>
        </p:nvPicPr>
        <p:blipFill>
          <a:blip r:embed="rId1"/>
          <a:stretch/>
        </p:blipFill>
        <p:spPr>
          <a:xfrm>
            <a:off x="380880" y="1295280"/>
            <a:ext cx="1067040" cy="10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Medieval armor european sallet helm"/>
          <p:cNvPicPr/>
          <p:nvPr/>
        </p:nvPicPr>
        <p:blipFill>
          <a:blip r:embed="rId2"/>
          <a:stretch/>
        </p:blipFill>
        <p:spPr>
          <a:xfrm>
            <a:off x="1981080" y="144792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Pigface knight helm goes well with a suit of armo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6553080" y="304920"/>
            <a:ext cx="1922760" cy="2514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Kettle-hat, XIII c."/>
          <p:cNvPicPr/>
          <p:nvPr/>
        </p:nvPicPr>
        <p:blipFill>
          <a:blip r:embed="rId6"/>
          <a:stretch/>
        </p:blipFill>
        <p:spPr>
          <a:xfrm>
            <a:off x="838080" y="3200400"/>
            <a:ext cx="1619280" cy="1362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2120" y="48006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tle hat. This is one of the first helm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12408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cinets The one on the left is the original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5146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l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2033640" cy="2248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5530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Closed Salet Suit of Ar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10348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09480" y="467028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17560" y="160020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3581280" y="4629240"/>
            <a:ext cx="2965680" cy="2228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505320" y="1752480"/>
            <a:ext cx="2625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n mail &amp;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657600" cy="290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758960" cy="2185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538360" cy="3429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622920" y="1676520"/>
            <a:ext cx="2521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te 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Suit of Armor"/>
          <p:cNvPicPr/>
          <p:nvPr/>
        </p:nvPicPr>
        <p:blipFill>
          <a:blip r:embed="rId2"/>
          <a:stretch/>
        </p:blipFill>
        <p:spPr>
          <a:xfrm>
            <a:off x="3657600" y="1371600"/>
            <a:ext cx="2081160" cy="452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Knight in Armour"/>
          <p:cNvPicPr/>
          <p:nvPr/>
        </p:nvPicPr>
        <p:blipFill>
          <a:blip r:embed="rId3"/>
          <a:stretch/>
        </p:blipFill>
        <p:spPr>
          <a:xfrm>
            <a:off x="6095880" y="1447920"/>
            <a:ext cx="2063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haabasreplicas.net/pcat-gifs/products-small/close-helmets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medieval-chain-mail-armor.com/images/H237_Corinthian_Helmet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medievalarmor.com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sl-armours.com/eng/showitem/id,39/kettle-hat-xiii-c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leader.gen.nz/medieval/cuir-bouilli/images/faceplate/061004%20helmet%20with%20faceplate%203-4s%20propped%20onl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ttp://www.scholasaintgeorge.org/images/visor_prototype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www.weaponsemporium.com/WE-Chain%20Mail%20Shirt%20&amp;%20Coif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uberreview.com/wp-content/uploads/600_chain_mail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darksword-armory.com/images/17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blogofwishes.com/wp-content/uploads/2007/08/chain_mail_tshirt_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fantasy-armor.com/images/armors/AE1434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29:48Z</dcterms:created>
  <dc:creator>Admin</dc:creator>
  <dc:description/>
  <dc:language>en-US</dc:language>
  <cp:lastModifiedBy>Admin</cp:lastModifiedBy>
  <dcterms:modified xsi:type="dcterms:W3CDTF">2008-11-07T03:19:38Z</dcterms:modified>
  <cp:revision>13</cp:revision>
  <dc:subject/>
  <dc:title>Slide 1</dc:title>
</cp:coreProperties>
</file>