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C62A-E4E5-4A2F-80FF-68468ECAF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76AB-5BE1-41AB-88FC-DDEE42699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0F10-881E-4997-AA24-7B098F29B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F9B1-73E6-45B4-B82A-DC4A3A5D3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C629C-7CCE-4A9C-895C-D72FD9CB7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986D0-5B64-43A6-93F7-055E8171E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DE1EB-B0B6-40FE-801B-8202FD167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91550-C77C-42C4-A292-21AEDB868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FAB5B-A793-4901-8A35-5B401C6EE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E3893-D212-4D09-98DB-6A718B082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9B6FC-F154-435D-985C-CBD10EABE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11B7-AB39-4EBA-AB67-9529F5DDF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3A7A6-07DA-49D1-A33D-0CB51929A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A2658-FDA4-4F70-8BE9-2EE006731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06311-3D4C-4E47-911A-C6A6A1ACE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4EAF2-04D1-41A1-B6F5-98FAAA715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701BC-6EB3-463E-B6D3-D77866A00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A25CF-9735-4B1A-8BCC-C14965228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9270B-EF41-4849-AD8F-68F0AC32A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76C22-5208-4494-9F15-D569BC148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D79B6-E8FD-4D7A-A995-A1F7D5196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AC230-5A24-4538-BDF3-9481C2B51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8C37-4C16-45DD-80A9-B06F4D55A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22248-0DAB-444C-82B3-9CAF3EE1C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B344A-EC8C-40A2-97EA-E03CEFB57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87E41-E0A9-4F80-8851-611405D7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1D0DB-430C-4604-9DCF-54D835A05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B733C-1EEC-4070-A819-BDA3CC11F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F0324-B867-4EFB-B07D-A766D2E60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BD9D6-6C62-41CD-84E3-C625DEE4C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F72CB0-95DD-4A81-88C3-824883B49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FA4C9A-61B2-4FAA-8EF5-47805790B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A130E5-E57D-48C4-A897-9AA023015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ED16-ADCA-4D60-8A4E-4787012B1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AB157E-91C4-4F19-89B2-C4A99E87B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AC175A-1500-4083-9040-A60008F60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A80050-B052-442F-9260-2068552D6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A7EAE5-707E-4AAA-8611-03DBFDF85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BE5840-C2CE-47CA-AC5F-EBFA73BD3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504531-0BB3-49C3-9BA0-A3029FB5F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71E244-302E-40F6-9920-F19D8284B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4DB94D-07C9-4705-8386-BFC337785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D3D4AE-5C48-4E0A-9B08-C52ED6DC5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2E6F19-2B3E-4453-9817-115A4A76E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730C-B3B6-46A4-B4DF-78F48C92A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CECCDB-C96C-48C4-BE71-E1B1450F8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9C9E4A-1952-49ED-8D52-AAE8DCD51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4690A9-C4D4-4392-B117-814D46D53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D6E98F-1293-4139-AB0E-40972FE0F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A32014-A4E3-4FBD-83B9-3594C2EB3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5DF67F-4C1E-4FD9-8713-834F3B62D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2A5143-F8DA-442F-A710-2853D02A4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AD4C9D-1D58-4EA9-8CD3-2577D824E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FBA6F6-A645-45CA-B3D0-2B64100D6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09F7CF-D7D6-4B74-9146-7CEC43C2D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C61D-5AED-467E-8963-149CA7A3D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A648AC-7D31-4ED5-A549-BAC4D441A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5236-CD79-40C2-BAF9-33F0554D3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5B48-35ED-41E6-BC80-69AFB9275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EAEE-0D70-4758-9799-8A9F8467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6F07D-D7C1-483B-A35C-9F429A0C42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42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46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71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150A1-87B2-4811-8354-EA8C1EEF746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120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124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00D13-8018-42BD-B746-FE13BEABFCB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97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8FA6D-8BE9-423F-9DB3-C40E886CD9F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60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606BD-0003-4623-92E9-F150506E351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scholasaintgeorge.org/images/visor_prototype.jpg&amp;imgrefurl=http://www.scholasaintgeorge.org/equipment.html&amp;h=295&amp;w=450&amp;sz=19&amp;hl=en&amp;start=18&amp;um=1&amp;usg=__UqNRrcbNeXmg5eZm5wuxLM5bWXI=&amp;tbnid=A9uTIKEJZkhWuM:&amp;tbnh=83&amp;tbnw=127&amp;prev=/images%3Fq%3Dmedieval%2Bvisors%26um%3D1%26hl%3Den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hyperlink" Target="http://www.medievalarmor.com/armor/pigface-bascinet.htm" TargetMode="External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medievalarmor.com/armor/closed-salet-suit-of-armor.htm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wmf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shaabasreplicas.net/pcat-gifs/products-small/close-helmets2.jpg" TargetMode="External"/><Relationship Id="rId2" Type="http://schemas.openxmlformats.org/officeDocument/2006/relationships/hyperlink" Target="http://www.medievalarmor.com/" TargetMode="External"/><Relationship Id="rId3" Type="http://schemas.openxmlformats.org/officeDocument/2006/relationships/hyperlink" Target="http://sl-armours.com/eng/showitem/id,39/kettle-hat-xiii-c.html" TargetMode="External"/><Relationship Id="rId4" Type="http://schemas.openxmlformats.org/officeDocument/2006/relationships/hyperlink" Target="http://www.leader.gen.nz/medieval/cuir-bouilli/images/faceplate/061004%20helmet%20with%20faceplate%203-4s%20propped%20only.jpg" TargetMode="External"/><Relationship Id="rId5" Type="http://schemas.openxmlformats.org/officeDocument/2006/relationships/hyperlink" Target="http://www.scholasaintgeorge.org/images/visor_prototype.jpg" TargetMode="External"/><Relationship Id="rId6" Type="http://schemas.openxmlformats.org/officeDocument/2006/relationships/hyperlink" Target="http://www.weaponsemporium.com/WE-Chain%20Mail%20Shirt%20&amp;%20Coif.jpg" TargetMode="External"/><Relationship Id="rId7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darksword-armory.com/images/1703.jpg" TargetMode="External"/><Relationship Id="rId2" Type="http://schemas.openxmlformats.org/officeDocument/2006/relationships/hyperlink" Target="http://blogofwishes.com/wp-content/uploads/2007/08/chain_mail_tshirt_2.jpg" TargetMode="External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ARM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y: Jared Chap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3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762120" y="1523880"/>
            <a:ext cx="723888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HE END</a:t>
            </a: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elmet shap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2" descr="http://www.medieval-chain-mail-armor.com/images/H237_Corinthian_Helmet.JPG"/>
          <p:cNvPicPr/>
          <p:nvPr/>
        </p:nvPicPr>
        <p:blipFill>
          <a:blip r:embed="rId1"/>
          <a:stretch/>
        </p:blipFill>
        <p:spPr>
          <a:xfrm>
            <a:off x="533520" y="1752480"/>
            <a:ext cx="2286000" cy="3571920"/>
          </a:xfrm>
          <a:prstGeom prst="rect">
            <a:avLst/>
          </a:prstGeom>
          <a:ln w="0">
            <a:noFill/>
          </a:ln>
        </p:spPr>
      </p:pic>
      <p:sp>
        <p:nvSpPr>
          <p:cNvPr id="325" name="TextBox 4"/>
          <p:cNvSpPr/>
          <p:nvPr/>
        </p:nvSpPr>
        <p:spPr>
          <a:xfrm>
            <a:off x="2971800" y="2438280"/>
            <a:ext cx="25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a round topped helme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4" descr="http://www.shaabasreplicas.net/pcat-gifs/products-small/close-helmets2.jpg"/>
          <p:cNvPicPr/>
          <p:nvPr/>
        </p:nvPicPr>
        <p:blipFill>
          <a:blip r:embed="rId2"/>
          <a:stretch/>
        </p:blipFill>
        <p:spPr>
          <a:xfrm>
            <a:off x="5334120" y="1600200"/>
            <a:ext cx="3200400" cy="3162240"/>
          </a:xfrm>
          <a:prstGeom prst="rect">
            <a:avLst/>
          </a:prstGeom>
          <a:ln w="0">
            <a:noFill/>
          </a:ln>
        </p:spPr>
      </p:pic>
      <p:sp>
        <p:nvSpPr>
          <p:cNvPr id="327" name="TextBox 6"/>
          <p:cNvSpPr/>
          <p:nvPr/>
        </p:nvSpPr>
        <p:spPr>
          <a:xfrm>
            <a:off x="5562720" y="5181480"/>
            <a:ext cx="281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is is a crowned/ pointed helm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2133720"/>
            <a:ext cx="4267080" cy="327636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3"/>
          <a:stretch/>
        </p:blipFill>
        <p:spPr>
          <a:xfrm>
            <a:off x="5410080" y="1981080"/>
            <a:ext cx="3086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m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1" descr="German knight armor sallet helm"/>
          <p:cNvPicPr/>
          <p:nvPr/>
        </p:nvPicPr>
        <p:blipFill>
          <a:blip r:embed="rId1"/>
          <a:stretch/>
        </p:blipFill>
        <p:spPr>
          <a:xfrm>
            <a:off x="380880" y="1295280"/>
            <a:ext cx="1067040" cy="108108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2" descr="Medieval armor european sallet helm"/>
          <p:cNvPicPr/>
          <p:nvPr/>
        </p:nvPicPr>
        <p:blipFill>
          <a:blip r:embed="rId2"/>
          <a:stretch/>
        </p:blipFill>
        <p:spPr>
          <a:xfrm>
            <a:off x="1981080" y="1447920"/>
            <a:ext cx="1143000" cy="100944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4" descr="Pigface knight helm goes well with a suit of armor.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52880" y="1371600"/>
            <a:ext cx="1371600" cy="13017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5"/>
          <a:stretch/>
        </p:blipFill>
        <p:spPr>
          <a:xfrm>
            <a:off x="6553080" y="304920"/>
            <a:ext cx="1922760" cy="251460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Kettle-hat, XIII c."/>
          <p:cNvPicPr/>
          <p:nvPr/>
        </p:nvPicPr>
        <p:blipFill>
          <a:blip r:embed="rId6"/>
          <a:stretch/>
        </p:blipFill>
        <p:spPr>
          <a:xfrm>
            <a:off x="838080" y="3200400"/>
            <a:ext cx="1619280" cy="136224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762120" y="4800600"/>
            <a:ext cx="205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ttle hat. This is one of the first helme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181480" y="3124080"/>
            <a:ext cx="3353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cinets The one on the left is the original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38080" y="2514600"/>
            <a:ext cx="19051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lle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7"/>
          <a:stretch/>
        </p:blipFill>
        <p:spPr>
          <a:xfrm>
            <a:off x="4267080" y="4038480"/>
            <a:ext cx="2033640" cy="224820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6553080" y="44197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me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8c3d9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" descr="Closed Salet Suit of Armo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48520" y="1066680"/>
            <a:ext cx="2103480" cy="525780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rm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3"/>
          <a:stretch/>
        </p:blipFill>
        <p:spPr>
          <a:xfrm>
            <a:off x="533520" y="304920"/>
            <a:ext cx="1779480" cy="178740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4"/>
          <a:stretch/>
        </p:blipFill>
        <p:spPr>
          <a:xfrm>
            <a:off x="609480" y="4670280"/>
            <a:ext cx="2187720" cy="218772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5"/>
          <a:stretch/>
        </p:blipFill>
        <p:spPr>
          <a:xfrm>
            <a:off x="817560" y="1600200"/>
            <a:ext cx="2387520" cy="358128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6"/>
          <a:stretch/>
        </p:blipFill>
        <p:spPr>
          <a:xfrm>
            <a:off x="3581280" y="4629240"/>
            <a:ext cx="2965680" cy="222876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7"/>
          <a:stretch/>
        </p:blipFill>
        <p:spPr>
          <a:xfrm>
            <a:off x="3505320" y="1752480"/>
            <a:ext cx="262548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50000">
              <a:srgbClr val="4d0808"/>
            </a:gs>
            <a:gs pos="100000">
              <a:srgbClr val="fff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in mail &amp; Lea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2819520" y="3809880"/>
            <a:ext cx="3657600" cy="290700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3809880" y="1447920"/>
            <a:ext cx="1758960" cy="218592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3"/>
          <a:stretch/>
        </p:blipFill>
        <p:spPr>
          <a:xfrm>
            <a:off x="228600" y="1828800"/>
            <a:ext cx="2538360" cy="342900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4"/>
          <a:stretch/>
        </p:blipFill>
        <p:spPr>
          <a:xfrm>
            <a:off x="6622920" y="1676520"/>
            <a:ext cx="252108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bf00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4114800" cy="349884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ate Arm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Suit of Armor"/>
          <p:cNvPicPr/>
          <p:nvPr/>
        </p:nvPicPr>
        <p:blipFill>
          <a:blip r:embed="rId2"/>
          <a:stretch/>
        </p:blipFill>
        <p:spPr>
          <a:xfrm>
            <a:off x="3657600" y="1371600"/>
            <a:ext cx="2081160" cy="452592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Knight in Armour"/>
          <p:cNvPicPr/>
          <p:nvPr/>
        </p:nvPicPr>
        <p:blipFill>
          <a:blip r:embed="rId3"/>
          <a:stretch/>
        </p:blipFill>
        <p:spPr>
          <a:xfrm>
            <a:off x="6095880" y="1447920"/>
            <a:ext cx="2063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our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http://www.shaabasreplicas.net/pcat-gifs/products-small/close-helmets2.jp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ttp://www.medieval-chain-mail-armor.com/images/H237_Corinthian_Helmet.JP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http://www.medievalarmor.com/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Verdana"/>
                <a:hlinkClick r:id="rId3"/>
              </a:rPr>
              <a:t>http://sl-armours.com/eng/showitem/id,39/kettle-hat-xiii-c.htm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Verdana"/>
                <a:hlinkClick r:id="rId4"/>
              </a:rPr>
              <a:t>http://www.leader.gen.nz/medieval/cuir-bouilli/images/faceplate/061004%20helmet%20with%20faceplate%203-4s%20propped%20only.jp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Verdana"/>
                <a:hlinkClick r:id="rId5"/>
              </a:rPr>
              <a:t>http://www.scholasaintgeorge.org/images/visor_prototype.jp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Verdana"/>
                <a:hlinkClick r:id="rId6"/>
              </a:rPr>
              <a:t>http://www.weaponsemporium.com/WE-Chain%20Mail%20Shirt%20&amp;%20Coif.jp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ttp://www.uberreview.com/wp-content/uploads/600_chain_mail.jp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our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http://www.darksword-armory.com/images/1703.jp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http://blogofwishes.com/wp-content/uploads/2007/08/chain_mail_tshirt_2.jp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ttp://www.fantasy-armor.com/images/armors/AE1434.jp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7T02:29:48Z</dcterms:created>
  <dc:creator>Admin</dc:creator>
  <dc:description/>
  <dc:language>en-US</dc:language>
  <cp:lastModifiedBy>Admin</cp:lastModifiedBy>
  <dcterms:modified xsi:type="dcterms:W3CDTF">2008-11-07T03:19:38Z</dcterms:modified>
  <cp:revision>13</cp:revision>
  <dc:subject/>
  <dc:title>Slide 1</dc:title>
</cp:coreProperties>
</file>