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A80-28FB-4C4F-9B1F-D56CB7AA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B4C-CD62-4F96-B351-AEE857D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D74-AB6D-4E04-8640-69569EC1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DFA-B098-4119-B4B9-E4CF8A3B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AF66-A1C8-48EE-85E9-C774D202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1E17-AAF1-4F63-A624-D4AE452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4B7-44C1-4195-BAF2-121EFBB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A364-70C1-412A-BB31-A4B03C9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BD3-8474-4F1C-9759-BCB5C97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6489-83AF-4DEF-B9B0-7723850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E9A9-3E0B-4E78-B285-481D4C3C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A13-E2C7-4857-9781-A3C5AA9D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71C-A275-4349-9844-FA112DC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423-07C9-4FD7-B8D5-2F0F6F5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E609-B613-4289-BCBC-43A7FCD7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BB95-86C8-46B1-89CC-0C65BB92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F45-6AE8-4FA2-A2F2-74239F59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4C6D-DC8F-4D58-81A2-D33CB798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D1D1-40E6-4BF8-A758-B14CAFDF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92DE-252D-4BBC-AC78-575EACEC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3B90-B7AB-4149-A724-F981374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D40E-7A4A-4823-B17D-E6E0842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191-053F-42EA-AC13-90AA4586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D43A-9625-4245-8A29-23C7E07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EFADF-DC5D-4BC9-814E-AE076EE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AF53-11F1-4F9F-9173-62693BF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9ECA-A2AD-4A86-BFAF-37D4D40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0C58-8494-4B21-B9E5-16F8A268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F688-3D1B-4487-A305-94CEE6BE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DEC0-04A2-4EF6-A0A0-73A934D3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450F3-5AFA-4122-8C86-CA36D65D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2B76B-4A45-496C-B9AD-5090F00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6309D-ACCE-49B6-91FC-E51F0C7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E45-F091-4B74-8066-534D64E2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3D7DF-A0EA-4E78-A86D-0AD1B4C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77B9F-3627-4058-A0EA-A9C0E80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BECBC-7539-454A-9640-906379CC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92ABB-4792-4718-BA72-BAA09F1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16A07-DFEB-4146-9299-1B7F8626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652B3-B44A-4D63-BB47-D007940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AFBFE-F1D4-46F6-A61D-30D6FBA4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CD039-5DCD-4042-9261-D756E1FF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83926-08CA-4B7D-A4C6-AF9D85A3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83F6-AF73-4C23-BDB4-7C34F8DD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493-0B04-4FBC-BC91-3906E5D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D3D8-CA4A-4E63-B785-C3FEC954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D4D1-5551-4FCC-B3E5-1DBA4AB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6819-0DE9-4C48-B7F7-4613B87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1C24-793F-4AEE-B26A-4FB3929A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0258-8FF2-42A2-A046-85AA0195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F2CA-3B9A-4D25-BA61-7C7332A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EA686-BDFE-4C91-AE66-406E5B4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751B-57E6-48D0-91CB-DF51CE1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2D4F-2079-4530-95EF-5ABC3627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1DAD6-7C1F-4CAE-B7FB-3A828D95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233-D2E2-406D-AB0D-93AFA130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B70D-71D8-4B54-BE0D-5639DD2C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1F9-5485-4192-9C26-DE6C98D7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162-022B-4A98-AC1F-264E808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13B-A4C4-4FDA-9592-7A4C77B7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A5A8-65C7-46B3-BC87-573597A7C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5909-01F3-4651-B0A3-518FB4107E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7950-FBBB-46AC-A755-02DE8FC29F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BB50-7C67-49AA-89D8-B69007F3A2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6402-ED1F-4465-BCC6-B2540F7A17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lasaintgeorge.org/images/visor_prototype.jpg&amp;imgrefurl=http://www.scholasaintgeorge.org/equipment.html&amp;h=295&amp;w=450&amp;sz=19&amp;hl=en&amp;start=18&amp;um=1&amp;usg=__UqNRrcbNeXmg5eZm5wuxLM5bWXI=&amp;tbnid=A9uTIKEJZkhWuM:&amp;tbnh=83&amp;tbnw=127&amp;prev=/images%3Fq%3Dmedieval%2Bvisors%26um%3D1%26hl%3De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medievalarmor.com/armor/pigface-bascinet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ievalarmor.com/armor/closed-salet-suit-of-armor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aabasreplicas.net/pcat-gifs/products-small/close-helmets2.jpg" TargetMode="External"/><Relationship Id="rId2" Type="http://schemas.openxmlformats.org/officeDocument/2006/relationships/hyperlink" Target="http://www.medievalarmor.com/" TargetMode="External"/><Relationship Id="rId3" Type="http://schemas.openxmlformats.org/officeDocument/2006/relationships/hyperlink" Target="http://sl-armours.com/eng/showitem/id,39/kettle-hat-xiii-c.html" TargetMode="External"/><Relationship Id="rId4" Type="http://schemas.openxmlformats.org/officeDocument/2006/relationships/hyperlink" Target="http://www.leader.gen.nz/medieval/cuir-bouilli/images/faceplate/061004%20helmet%20with%20faceplate%203-4s%20propped%20only.jpg" TargetMode="External"/><Relationship Id="rId5" Type="http://schemas.openxmlformats.org/officeDocument/2006/relationships/hyperlink" Target="http://www.scholasaintgeorge.org/images/visor_prototype.jpg" TargetMode="External"/><Relationship Id="rId6" Type="http://schemas.openxmlformats.org/officeDocument/2006/relationships/hyperlink" Target="http://www.weaponsemporium.com/WE-Chain%20Mail%20Shirt%20&amp;%20Coif.jpg" TargetMode="External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rksword-armory.com/images/1703.jpg" TargetMode="External"/><Relationship Id="rId2" Type="http://schemas.openxmlformats.org/officeDocument/2006/relationships/hyperlink" Target="http://blogofwishes.com/wp-content/uploads/2007/08/chain_mail_tshirt_2.jpg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Jared Ch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2120" y="1523880"/>
            <a:ext cx="7238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lmet shap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www.medieval-chain-mail-armor.com/images/H237_Corinthian_Helmet.JPG"/>
          <p:cNvPicPr/>
          <p:nvPr/>
        </p:nvPicPr>
        <p:blipFill>
          <a:blip r:embed="rId1"/>
          <a:stretch/>
        </p:blipFill>
        <p:spPr>
          <a:xfrm>
            <a:off x="533520" y="1752480"/>
            <a:ext cx="2286000" cy="3571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2971800" y="2438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round topped helm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http://www.shaabasreplicas.net/pcat-gifs/products-small/close-helmets2.jpg"/>
          <p:cNvPicPr/>
          <p:nvPr/>
        </p:nvPicPr>
        <p:blipFill>
          <a:blip r:embed="rId2"/>
          <a:stretch/>
        </p:blipFill>
        <p:spPr>
          <a:xfrm>
            <a:off x="5334120" y="1600200"/>
            <a:ext cx="3200400" cy="3162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5562720" y="518148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a crowned/ pointed hel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4267080" cy="3276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German knight armor sallet helm"/>
          <p:cNvPicPr/>
          <p:nvPr/>
        </p:nvPicPr>
        <p:blipFill>
          <a:blip r:embed="rId1"/>
          <a:stretch/>
        </p:blipFill>
        <p:spPr>
          <a:xfrm>
            <a:off x="380880" y="1295280"/>
            <a:ext cx="1067040" cy="108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Medieval armor european sallet helm"/>
          <p:cNvPicPr/>
          <p:nvPr/>
        </p:nvPicPr>
        <p:blipFill>
          <a:blip r:embed="rId2"/>
          <a:stretch/>
        </p:blipFill>
        <p:spPr>
          <a:xfrm>
            <a:off x="1981080" y="144792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Pigface knight helm goes well with a suit of armo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6553080" y="304920"/>
            <a:ext cx="1922760" cy="2514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Kettle-hat, XIII c."/>
          <p:cNvPicPr/>
          <p:nvPr/>
        </p:nvPicPr>
        <p:blipFill>
          <a:blip r:embed="rId6"/>
          <a:stretch/>
        </p:blipFill>
        <p:spPr>
          <a:xfrm>
            <a:off x="838080" y="3200400"/>
            <a:ext cx="1619280" cy="1362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62120" y="48006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tle hat. This is one of the first helm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12408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cinets The one on the left is the original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5146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l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2033640" cy="2248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553080" y="4419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Closed Salet Suit of Arm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10348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09480" y="467028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17560" y="160020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3581280" y="4629240"/>
            <a:ext cx="2965680" cy="2228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3505320" y="1752480"/>
            <a:ext cx="2625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n mail &amp; L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657600" cy="290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758960" cy="2185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538360" cy="3429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622920" y="1676520"/>
            <a:ext cx="2521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te Ar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Suit of Armor"/>
          <p:cNvPicPr/>
          <p:nvPr/>
        </p:nvPicPr>
        <p:blipFill>
          <a:blip r:embed="rId2"/>
          <a:stretch/>
        </p:blipFill>
        <p:spPr>
          <a:xfrm>
            <a:off x="3657600" y="1371600"/>
            <a:ext cx="2081160" cy="452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Knight in Armour"/>
          <p:cNvPicPr/>
          <p:nvPr/>
        </p:nvPicPr>
        <p:blipFill>
          <a:blip r:embed="rId3"/>
          <a:stretch/>
        </p:blipFill>
        <p:spPr>
          <a:xfrm>
            <a:off x="6095880" y="1447920"/>
            <a:ext cx="2063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haabasreplicas.net/pcat-gifs/products-small/close-helmets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medieval-chain-mail-armor.com/images/H237_Corinthian_Helmet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medievalarmor.com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sl-armours.com/eng/showitem/id,39/kettle-hat-xiii-c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ww.leader.gen.nz/medieval/cuir-bouilli/images/faceplate/061004%20helmet%20with%20faceplate%203-4s%20propped%20onl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http://www.scholasaintgeorge.org/images/visor_prototype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www.weaponsemporium.com/WE-Chain%20Mail%20Shirt%20&amp;%20Coif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uberreview.com/wp-content/uploads/600_chain_mail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darksword-armory.com/images/17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blogofwishes.com/wp-content/uploads/2007/08/chain_mail_tshirt_2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fantasy-armor.com/images/armors/AE1434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29:48Z</dcterms:created>
  <dc:creator>Admin</dc:creator>
  <dc:description/>
  <dc:language>en-US</dc:language>
  <cp:lastModifiedBy>Admin</cp:lastModifiedBy>
  <dcterms:modified xsi:type="dcterms:W3CDTF">2008-11-07T03:19:38Z</dcterms:modified>
  <cp:revision>13</cp:revision>
  <dc:subject/>
  <dc:title>Slide 1</dc:title>
</cp:coreProperties>
</file>