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760-A96A-43F3-81EB-F515F61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B33-FD17-4365-B753-79E28D6A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7C8-65B1-45E1-917E-CF38D5E0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C5F-0E1B-4768-A0A1-8851270D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9C52-3568-47FD-B8D1-684CF761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148B-E6C1-48ED-8A14-5FCFE8A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7B18-1ABE-4C67-A446-52C07EC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865C-3E6C-444B-9213-682D538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56E-3934-442C-96B3-E154DAE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9F2-7E64-45C2-AC2C-3AAF36A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3C24-B066-4526-9087-B5EB0DE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817-6D88-4755-A425-A8507D7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F44-8F36-45A2-8CBF-272F58B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E7C-8CC1-4443-9C16-AC7917C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2B1-176C-4B53-A89E-4411FBE5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7240-24BF-453A-9F0A-D88E909E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24D1-F123-40B5-9961-E181B9D9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4BBE-821F-4542-9F8A-DF3B7E4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711E-442A-4A11-B6B1-CC4EA226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44E0-35D7-4342-A0FE-5C08491E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34AE-37E3-4900-9F59-B627920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A953-6909-4C8C-A717-31AB5CCD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B86-29E0-4469-9352-6F81C63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9787-4643-4A59-A6D9-3655A40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0E9B-187A-4A97-A9F5-6FCE744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CC2E-0C85-4624-8CC5-627D378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A627-325C-4377-86F0-5EFBC8A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479B-BEDE-4DB6-9537-7DDA4C05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AED6-B3E8-489E-BBF1-58FFBF95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F21F-532A-4D68-B4DB-D3F947F1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CB4CD-A3A5-4D6B-9556-F87E6627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67B6A-2153-4F47-BFC0-B2C65395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BBD04-F7ED-4720-AFA9-EED1C0B5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92D-567E-4489-B028-08B9762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3114B-9051-45EF-B456-C856242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0F9E3-FDCE-4C58-96E9-09EF1A7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64D36-0F27-4384-8067-5523E6F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FDEC7-00CA-4E9A-BAE9-4D60A17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A98A6-95CA-4FC8-AE59-DBF44FE9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C3BCC-39DA-46B2-A06D-E398BAAC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D3052-B3A5-4AB0-B225-6B08C02D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44E95-68BD-46FC-8C30-7B9C853C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07150-68A0-4BCE-A729-018E3608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5A95-1B7D-4CB7-B557-FD1B01CB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D45-770F-44BF-9FA9-C9A1206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DE3A-4EDA-43E8-A9AA-0317B7F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75D8-1C2F-4CD9-8139-5069006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3ECC-4903-41A9-A443-7832ACB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FFBB-200F-4820-A99A-AB282771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A0FB-F43B-48F9-BFE6-8199876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D98A-F3A7-45B4-B6E5-AF92C34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DBA4-46C6-4ED5-8396-134D078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0C79-B714-4B6C-80F1-3ECFE21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AEBA-1EF4-4747-8F00-1856D74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A226-2F65-4E73-939B-5164788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E51-D263-44CC-994F-268CA3AA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7421-AEFE-4C18-862F-0D31F66B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10C-AB0B-472F-A1D9-7CD36AB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504-B97C-40B6-B6E5-4CAFB0ED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DC0-7E92-4D79-8D99-5DBAE38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702-C568-4C51-BE23-7282C79B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DAB-C207-4419-AEB9-22DCF0C9F1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740C-9955-4C8C-83DD-93E70ECFAB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EF2-37A4-4557-BEEF-98ACEE2AE1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ED7-C043-4DC7-BFE8-AE7220B52A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lasaintgeorge.org/images/visor_prototype.jpg&amp;imgrefurl=http://www.scholasaintgeorge.org/equipment.html&amp;h=295&amp;w=450&amp;sz=19&amp;hl=en&amp;start=18&amp;um=1&amp;usg=__UqNRrcbNeXmg5eZm5wuxLM5bWXI=&amp;tbnid=A9uTIKEJZkhWuM:&amp;tbnh=83&amp;tbnw=127&amp;prev=/images%3Fq%3Dmedieval%2Bvisors%26um%3D1%26hl%3De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medievalarmor.com/armor/pigface-bascinet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ievalarmor.com/armor/closed-salet-suit-of-armor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aabasreplicas.net/pcat-gifs/products-small/close-helmets2.jpg" TargetMode="External"/><Relationship Id="rId2" Type="http://schemas.openxmlformats.org/officeDocument/2006/relationships/hyperlink" Target="http://www.medievalarmor.com/" TargetMode="External"/><Relationship Id="rId3" Type="http://schemas.openxmlformats.org/officeDocument/2006/relationships/hyperlink" Target="http://sl-armours.com/eng/showitem/id,39/kettle-hat-xiii-c.html" TargetMode="External"/><Relationship Id="rId4" Type="http://schemas.openxmlformats.org/officeDocument/2006/relationships/hyperlink" Target="http://www.leader.gen.nz/medieval/cuir-bouilli/images/faceplate/061004%20helmet%20with%20faceplate%203-4s%20propped%20only.jpg" TargetMode="External"/><Relationship Id="rId5" Type="http://schemas.openxmlformats.org/officeDocument/2006/relationships/hyperlink" Target="http://www.scholasaintgeorge.org/images/visor_prototype.jpg" TargetMode="External"/><Relationship Id="rId6" Type="http://schemas.openxmlformats.org/officeDocument/2006/relationships/hyperlink" Target="http://www.weaponsemporium.com/WE-Chain%20Mail%20Shirt%20&amp;%20Coif.jpg" TargetMode="External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rksword-armory.com/images/1703.jpg" TargetMode="External"/><Relationship Id="rId2" Type="http://schemas.openxmlformats.org/officeDocument/2006/relationships/hyperlink" Target="http://blogofwishes.com/wp-content/uploads/2007/08/chain_mail_tshirt_2.jpg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Jared Ch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2120" y="1523880"/>
            <a:ext cx="7238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lmet shap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www.medieval-chain-mail-armor.com/images/H237_Corinthian_Helmet.JPG"/>
          <p:cNvPicPr/>
          <p:nvPr/>
        </p:nvPicPr>
        <p:blipFill>
          <a:blip r:embed="rId1"/>
          <a:stretch/>
        </p:blipFill>
        <p:spPr>
          <a:xfrm>
            <a:off x="533520" y="1752480"/>
            <a:ext cx="2286000" cy="3571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2971800" y="2438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round topped helm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http://www.shaabasreplicas.net/pcat-gifs/products-small/close-helmets2.jpg"/>
          <p:cNvPicPr/>
          <p:nvPr/>
        </p:nvPicPr>
        <p:blipFill>
          <a:blip r:embed="rId2"/>
          <a:stretch/>
        </p:blipFill>
        <p:spPr>
          <a:xfrm>
            <a:off x="5334120" y="1600200"/>
            <a:ext cx="3200400" cy="3162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5562720" y="518148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a crowned/ pointed hel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4267080" cy="3276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German knight armor sallet helm"/>
          <p:cNvPicPr/>
          <p:nvPr/>
        </p:nvPicPr>
        <p:blipFill>
          <a:blip r:embed="rId1"/>
          <a:stretch/>
        </p:blipFill>
        <p:spPr>
          <a:xfrm>
            <a:off x="380880" y="1295280"/>
            <a:ext cx="1067040" cy="10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Medieval armor european sallet helm"/>
          <p:cNvPicPr/>
          <p:nvPr/>
        </p:nvPicPr>
        <p:blipFill>
          <a:blip r:embed="rId2"/>
          <a:stretch/>
        </p:blipFill>
        <p:spPr>
          <a:xfrm>
            <a:off x="1981080" y="144792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Pigface knight helm goes well with a suit of armo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6553080" y="304920"/>
            <a:ext cx="1922760" cy="2514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Kettle-hat, XIII c."/>
          <p:cNvPicPr/>
          <p:nvPr/>
        </p:nvPicPr>
        <p:blipFill>
          <a:blip r:embed="rId6"/>
          <a:stretch/>
        </p:blipFill>
        <p:spPr>
          <a:xfrm>
            <a:off x="838080" y="3200400"/>
            <a:ext cx="1619280" cy="1362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62120" y="48006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tle hat. This is one of the first helm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12408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cinets The one on the left is the original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5146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l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2033640" cy="2248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553080" y="4419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Closed Salet Suit of Arm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10348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09480" y="467028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17560" y="160020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3581280" y="4629240"/>
            <a:ext cx="2965680" cy="2228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3505320" y="1752480"/>
            <a:ext cx="2625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n mail &amp; L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657600" cy="290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758960" cy="2185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538360" cy="3429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622920" y="1676520"/>
            <a:ext cx="2521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te 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Suit of Armor"/>
          <p:cNvPicPr/>
          <p:nvPr/>
        </p:nvPicPr>
        <p:blipFill>
          <a:blip r:embed="rId2"/>
          <a:stretch/>
        </p:blipFill>
        <p:spPr>
          <a:xfrm>
            <a:off x="3657600" y="1371600"/>
            <a:ext cx="2081160" cy="452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Knight in Armour"/>
          <p:cNvPicPr/>
          <p:nvPr/>
        </p:nvPicPr>
        <p:blipFill>
          <a:blip r:embed="rId3"/>
          <a:stretch/>
        </p:blipFill>
        <p:spPr>
          <a:xfrm>
            <a:off x="6095880" y="1447920"/>
            <a:ext cx="2063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haabasreplicas.net/pcat-gifs/products-small/close-helmets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medieval-chain-mail-armor.com/images/H237_Corinthian_Helmet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medievalarmor.com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sl-armours.com/eng/showitem/id,39/kettle-hat-xiii-c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ww.leader.gen.nz/medieval/cuir-bouilli/images/faceplate/061004%20helmet%20with%20faceplate%203-4s%20propped%20onl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http://www.scholasaintgeorge.org/images/visor_prototype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www.weaponsemporium.com/WE-Chain%20Mail%20Shirt%20&amp;%20Coif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uberreview.com/wp-content/uploads/600_chain_mail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darksword-armory.com/images/17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blogofwishes.com/wp-content/uploads/2007/08/chain_mail_tshirt_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fantasy-armor.com/images/armors/AE1434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29:48Z</dcterms:created>
  <dc:creator>Admin</dc:creator>
  <dc:description/>
  <dc:language>en-US</dc:language>
  <cp:lastModifiedBy>Admin</cp:lastModifiedBy>
  <dcterms:modified xsi:type="dcterms:W3CDTF">2008-11-07T03:19:38Z</dcterms:modified>
  <cp:revision>13</cp:revision>
  <dc:subject/>
  <dc:title>Slide 1</dc:title>
</cp:coreProperties>
</file>