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932-3FC5-4853-A138-EB4AED8E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BF4-7198-4599-BAB5-4C9840A1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830-AD36-497F-851D-476B88FD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512-21E0-4273-89D4-A902FA9E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70E-432B-44AE-9EC5-990E6D52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A02-6D68-4933-8103-79B7F1A3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E3A-86CA-4F72-A138-A95459BB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8A4-2F64-416C-A2FB-6FB749F4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B39-0BD2-454D-AA40-F7EA307E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28D-84C8-4C4A-A86D-27208E6F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77F-F93E-46C4-81E0-41A5CCF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795-BA66-4941-80EC-C3A57598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9233-174D-4359-8515-7786336A55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B31E-629F-49DB-A3F3-9B67EC53A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m and more 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eople 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or their faces are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y are not showing any emot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otion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 : In-(Prefix) + Pa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athe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o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i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mpr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your pitiful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omopop.com/ul/4210-go%20on%20impress%20me.jpg"/>
          <p:cNvPicPr/>
          <p:nvPr/>
        </p:nvPicPr>
        <p:blipFill>
          <a:blip r:embed="rId1"/>
          <a:stretch/>
        </p:blipFill>
        <p:spPr>
          <a:xfrm>
            <a:off x="990720" y="3200400"/>
            <a:ext cx="355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/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ke greater, more numerous, larger, or more intense &lt;the impact of the report was augmented by its timing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 : to add an augment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ymology: from Latin 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ugmentum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incr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onyms/Anton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and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plif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r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gr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tence to help mem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gmen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ch-marine had servo-ar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ed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arm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Space Marine Techmarine"/>
          <p:cNvPicPr/>
          <p:nvPr/>
        </p:nvPicPr>
        <p:blipFill>
          <a:blip r:embed="rId1"/>
          <a:stretch/>
        </p:blipFill>
        <p:spPr>
          <a:xfrm>
            <a:off x="609480" y="3276720"/>
            <a:ext cx="43531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13:51Z</dcterms:created>
  <dc:creator>dc</dc:creator>
  <dc:description/>
  <dc:language>en-US</dc:language>
  <cp:lastModifiedBy>GACS</cp:lastModifiedBy>
  <dcterms:modified xsi:type="dcterms:W3CDTF">2010-01-25T18:56:25Z</dcterms:modified>
  <cp:revision>12</cp:revision>
  <dc:subject/>
  <dc:title>Vocabulary Powerpoint</dc:title>
</cp:coreProperties>
</file>