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7A2-07B6-4E86-8C7D-EA4230E8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8AB-E7A3-490B-985A-8A18240F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7E7-7906-44A3-AD03-39738371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B27-8CBE-4577-9814-4DC1C126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9E8-1A85-4B90-B216-32698418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96C-E2C8-4D31-B75D-C17FE958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723-6210-4BE1-ACDA-4A8171F7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C8B-1F1F-4CF6-BDAF-6C284FAE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83D-85C6-4C69-BE34-BDB8DD50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4EC-6F94-4227-8A9E-0EF4BC05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C75-64AD-4CB1-A6CD-05A742A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93C-7E6A-4BBD-B12D-62E9A067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4E05-2BAC-4657-884E-62CBB942B0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7735-0726-4F6E-8697-EA13F71C4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am and more 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/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eople 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or their faces are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y are not showing any emot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otion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ymology : In-(Prefix) + Pas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onyms/Anton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athe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io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 to help mem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mpr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your pitiful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omopop.com/ul/4210-go%20on%20impress%20me.jpg"/>
          <p:cNvPicPr/>
          <p:nvPr/>
        </p:nvPicPr>
        <p:blipFill>
          <a:blip r:embed="rId1"/>
          <a:stretch/>
        </p:blipFill>
        <p:spPr>
          <a:xfrm>
            <a:off x="990720" y="3200400"/>
            <a:ext cx="355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/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make greater, more numerous, larger, or more intense &lt;the impact of the report was augmented by its timing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 : to add an augment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ymology: from Latin 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ugmentum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incr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onyms/Anton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and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plif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r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gr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 to help mem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gmen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ch-marine had servo-ar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ed 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arm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Space Marine Techmarine"/>
          <p:cNvPicPr/>
          <p:nvPr/>
        </p:nvPicPr>
        <p:blipFill>
          <a:blip r:embed="rId1"/>
          <a:stretch/>
        </p:blipFill>
        <p:spPr>
          <a:xfrm>
            <a:off x="609480" y="3276720"/>
            <a:ext cx="43531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13:51Z</dcterms:created>
  <dc:creator>dc</dc:creator>
  <dc:description/>
  <dc:language>en-US</dc:language>
  <cp:lastModifiedBy>GACS</cp:lastModifiedBy>
  <dcterms:modified xsi:type="dcterms:W3CDTF">2010-01-25T18:56:25Z</dcterms:modified>
  <cp:revision>12</cp:revision>
  <dc:subject/>
  <dc:title>Vocabulary Powerpoint</dc:title>
</cp:coreProperties>
</file>