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DCC1-5B63-475B-8BD2-207C80DA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BA6F-B0C4-43FD-8734-E86D42E5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4A34-0B7E-4E8A-9B99-C396516C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67D2-4986-41CE-9FB9-74A984B72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F712-D97F-4E90-8C68-9FE50B61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59BF-13DB-4ED4-BE47-7D71FCCE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7511-D874-4679-BB19-7F754A20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053F-E2FE-495D-A56C-F0A4CFE6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B7DE-DE17-4401-A9B5-5EE2E44C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F220-156F-430F-AF00-4F6C41BF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4507-3CA7-4857-B73B-7BDDF0BE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303D-6F47-435C-A2E0-BAD67EE8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7004-C63A-4BA0-87BE-42EB5C78AE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450D-04BA-45AD-A2E6-BE7F050D75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ulary Powerp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Sam and more An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ss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finition/Roo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people ar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assi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or their faces are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assi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y are not showing any emotion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onym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otionl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ymology : In-(Prefix) + Pass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nonyms/Antony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ony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athet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o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emo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tony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o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ress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ssion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tence to help memo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mpass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t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impress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ith your pitiful perform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tomopop.com/ul/4210-go%20on%20impress%20me.jpg"/>
          <p:cNvPicPr/>
          <p:nvPr/>
        </p:nvPicPr>
        <p:blipFill>
          <a:blip r:embed="rId1"/>
          <a:stretch/>
        </p:blipFill>
        <p:spPr>
          <a:xfrm>
            <a:off x="990720" y="3200400"/>
            <a:ext cx="355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g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finition/Roo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make greater, more numerous, larger, or more intense &lt;the impact of the report was augmented by its timing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 : to add an augment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ymology: from Latin 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ugmentum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incre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nonyms/Antony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ony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 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grand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plif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tony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re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gra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tence to help memo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ugment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ech-marine had servo-ar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dded t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arm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Space Marine Techmarine"/>
          <p:cNvPicPr/>
          <p:nvPr/>
        </p:nvPicPr>
        <p:blipFill>
          <a:blip r:embed="rId1"/>
          <a:stretch/>
        </p:blipFill>
        <p:spPr>
          <a:xfrm>
            <a:off x="609480" y="3276720"/>
            <a:ext cx="4353120" cy="31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8:13:51Z</dcterms:created>
  <dc:creator>dc</dc:creator>
  <dc:description/>
  <dc:language>en-US</dc:language>
  <cp:lastModifiedBy>GACS</cp:lastModifiedBy>
  <dcterms:modified xsi:type="dcterms:W3CDTF">2010-01-25T18:56:25Z</dcterms:modified>
  <cp:revision>12</cp:revision>
  <dc:subject/>
  <dc:title>Vocabulary Powerpoint</dc:title>
</cp:coreProperties>
</file>