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512-2FAD-48C2-84B3-EE1A85E4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06C-A7C8-4D1D-86E8-715A77EA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901-9CAD-4C30-8454-95E932E7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2B5-4C52-4F27-AD59-866ED80E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BDC-BA3C-4846-B334-CB6EA6C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2B5-D988-4D90-BB82-B8FA0B08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311-858F-421E-8AF4-0745D885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2E9-F025-479A-9ACD-ACF8C948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E58-B726-4DC4-9683-A928812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FC0-7FB3-46D9-A77B-627D17F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A66-B373-45ED-A6F1-595941A8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3F1-F6ED-4BF3-86DC-A9049C0E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961-A4BC-452C-8CDE-D022CCBDAB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94A-BE41-4CB8-9BE8-D42B7B424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m and more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eople 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s are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ke greater, more numerous, larger, or more intense &lt;the impact of the report was augmented by its timing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 : to add an augment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: from Latin 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gmentum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incr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and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plif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g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gmen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ch-marine had servo-ar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ed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arm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Space Marine Techmarine"/>
          <p:cNvPicPr/>
          <p:nvPr/>
        </p:nvPicPr>
        <p:blipFill>
          <a:blip r:embed="rId1"/>
          <a:stretch/>
        </p:blipFill>
        <p:spPr>
          <a:xfrm>
            <a:off x="609480" y="3276720"/>
            <a:ext cx="43531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GACS</cp:lastModifiedBy>
  <dcterms:modified xsi:type="dcterms:W3CDTF">2010-01-25T18:56:25Z</dcterms:modified>
  <cp:revision>12</cp:revision>
  <dc:subject/>
  <dc:title>Vocabulary Powerpoint</dc:title>
</cp:coreProperties>
</file>