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77E-D010-4116-8574-D477D18F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592-5C9E-4BAA-806D-3DFAFBFB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DA3-20C1-4064-9633-009EEF13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DF9-9699-4074-A957-A40D35CC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DC7-F615-4FCF-8CD3-3C37A69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0A8-5D7A-4962-A87B-B2B654D6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525-A439-4AB9-8F5B-BCB9F014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581-EC56-40C0-9CBF-5DA2D9E7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C34-ECD2-4F07-B30E-0346027E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D21-D8E6-4822-B154-9846F2CD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633-F49F-4B42-8C2F-554E9894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77D-9553-4273-BE56-442AF5FA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608A-78BD-4F26-BCBF-D4CF4AFC9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Sam and his 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omeone is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or their face is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y are not showing any emot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otion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 : In-(Prefix) + Pa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athe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i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mpr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your pitiful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omopop.com/ul/4210-go%20on%20impress%20me.jpg"/>
          <p:cNvPicPr/>
          <p:nvPr/>
        </p:nvPicPr>
        <p:blipFill>
          <a:blip r:embed="rId1"/>
          <a:stretch/>
        </p:blipFill>
        <p:spPr>
          <a:xfrm>
            <a:off x="990720" y="3200400"/>
            <a:ext cx="355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13:51Z</dcterms:created>
  <dc:creator>dc</dc:creator>
  <dc:description/>
  <dc:language>en-US</dc:language>
  <cp:lastModifiedBy>dc</cp:lastModifiedBy>
  <dcterms:modified xsi:type="dcterms:W3CDTF">2010-01-18T15:52:22Z</dcterms:modified>
  <cp:revision>6</cp:revision>
  <dc:subject/>
  <dc:title>Vocabulary Powerpoint</dc:title>
</cp:coreProperties>
</file>