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73D-410F-458D-94D0-E5450421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0CB-BC4B-482B-9BFE-B031FA42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B72B-C2E9-4E87-AD00-73603E1D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94E-D884-416C-8DCF-E87F7A56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753-D08C-4E16-9292-79451137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F9D-99EA-4E80-BCF1-94110521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0A7-84E0-4946-9CB2-0A009D5A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B38-3C57-4060-AA7E-821AB7F3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71C-6C77-4B6C-8BB0-2841E2F8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28A-AB7F-4B42-B2F5-B86340C5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337-B084-4340-B881-BB384328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70E-36F3-4DA9-BBF8-97BA5E29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5418-0C7C-4EF5-A45E-52E4656FF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Power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Sam and his 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ss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tion/Ro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someone is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or their face is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y are not showing any emot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otion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ymology : In-(Prefix) + Pas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nonyms/Antony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athe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emo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o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ress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ion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 to help mem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mpres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your pitiful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omopop.com/ul/4210-go%20on%20impress%20me.jpg"/>
          <p:cNvPicPr/>
          <p:nvPr/>
        </p:nvPicPr>
        <p:blipFill>
          <a:blip r:embed="rId1"/>
          <a:stretch/>
        </p:blipFill>
        <p:spPr>
          <a:xfrm>
            <a:off x="990720" y="3200400"/>
            <a:ext cx="355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8:13:51Z</dcterms:created>
  <dc:creator>dc</dc:creator>
  <dc:description/>
  <dc:language>en-US</dc:language>
  <cp:lastModifiedBy>dc</cp:lastModifiedBy>
  <dcterms:modified xsi:type="dcterms:W3CDTF">2010-01-18T15:52:22Z</dcterms:modified>
  <cp:revision>6</cp:revision>
  <dc:subject/>
  <dc:title>Vocabulary Powerpoint</dc:title>
</cp:coreProperties>
</file>