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BFF3-8062-4DB2-A904-4D9A78266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F749-398D-4870-B3AF-044B6200E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8122-1A4C-494A-80AD-0AA6E1746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3A5A-1F69-45CA-ACD4-D5FF7F491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4C08-302E-4A72-9339-A1866CD46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ADDD-FB86-48A0-B6B7-13B2B266E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A9F6-61E4-4656-A440-72CA3BC9B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074C-1589-45E8-BF61-4675EF629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434B-CD83-48C5-A6DF-6875BCCC6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79C0-7317-4FD9-AB04-25A1F0F47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E5BE-7563-4339-AC9F-B55A13C16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805D-0A72-447E-B42E-BBD38AF58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DDB0E-5CFD-49F5-AF57-219054AB89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cabulary Powerpoi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By: Sam and his Ant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assi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efinition/Roo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someone is 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mpassiv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 or their face is 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mpassiv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they are not showing any emotion.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onym: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motionl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tymology : In-(Prefix) + Passi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ynonyms/Antony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onym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patheti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oi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nemotion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tonym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motion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pressiv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assiona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ntence to help memor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mpassiv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at i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unimpresse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with your pitiful performan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http://tomopop.com/ul/4210-go%20on%20impress%20me.jpg"/>
          <p:cNvPicPr/>
          <p:nvPr/>
        </p:nvPicPr>
        <p:blipFill>
          <a:blip r:embed="rId1"/>
          <a:stretch/>
        </p:blipFill>
        <p:spPr>
          <a:xfrm>
            <a:off x="990720" y="3200400"/>
            <a:ext cx="355104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7T18:13:51Z</dcterms:created>
  <dc:creator>dc</dc:creator>
  <dc:description/>
  <dc:language>en-US</dc:language>
  <cp:lastModifiedBy>dc</cp:lastModifiedBy>
  <dcterms:modified xsi:type="dcterms:W3CDTF">2010-01-18T15:52:22Z</dcterms:modified>
  <cp:revision>6</cp:revision>
  <dc:subject/>
  <dc:title>Vocabulary Powerpoint</dc:title>
</cp:coreProperties>
</file>