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C35-011B-44EC-8FE6-4610FA9C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0FA-6E92-407D-ACFF-6796688C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63B-6006-40D9-960E-01D2C69B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FD9-905D-4774-8FF5-438E7CBE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0A9-C53D-4DB9-B4D1-DA1E249E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407-50BD-45D0-8076-2552037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AEC-1426-481A-A2EE-2963718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5E8-C9F2-4C59-B2A5-264CB554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57B-E698-4A34-A31C-2E1DE4F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F37-CBB6-4841-9DF1-456FEEB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0E5-6B13-4352-89F3-03E346D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3F-2983-4AA5-ABD6-7DFA0B2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598-1E4A-4257-9FAD-D4490AEBD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m and his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on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dc</cp:lastModifiedBy>
  <dcterms:modified xsi:type="dcterms:W3CDTF">2010-01-18T15:52:22Z</dcterms:modified>
  <cp:revision>6</cp:revision>
  <dc:subject/>
  <dc:title>Vocabulary Powerpoint</dc:title>
</cp:coreProperties>
</file>