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DDA-879A-4230-8D77-4629471D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8CE-B7E7-4230-8028-D58A8BF0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99A-934F-4C33-AF37-F66C0BA7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239-ECCB-4B31-B05D-495A9EA0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4DFE-73B2-4E45-BC46-304C5BDB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E402-107A-4DA0-89C8-E56A84B3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0F3F-34B0-4A23-9C6D-63B855D5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99A6-4905-43FC-B265-ECA0F92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02D5-4672-4CB4-BEF3-C40A09CB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8A65-7240-4D1B-8A6E-B7B62BA6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2C9F-E051-46A1-9AF6-8C32BCA9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113-B103-4988-95D7-EE3407F0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8224-A306-4623-AD03-98960CA8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DD3B-E9A4-4ABB-A554-C7AC35FF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0A86-4166-492C-9804-4011E74C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5BBA-6CA8-4003-8410-028FD898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39BF-DC04-4B13-AD9C-E3E28F48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98C-A707-4EED-8844-567FC9CA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603-B407-4FCB-9CDC-D8D5CCE8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729-8D46-465F-A396-D506FE8F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8CC-9ADC-4D50-9A98-A23173BA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116-A6E1-432C-AA6E-C0CDBF4B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5D5-9E8D-442D-9696-840FA9DF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ACF-730D-4311-BAD3-3B757770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3019-FA10-4E2C-B25D-DE8E8F63A6B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6E8A-12DD-4C5F-88AF-B977658246B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4800600" cy="3504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rom Latin: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in- not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 congruous- to come togeth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The singer’s voice was incongruous, so he lost the competition.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17524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 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congruous- adj. inconsistent or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  <a:ea typeface="MS Pゴシック"/>
              </a:rPr>
              <a:t>inappropriate; not harmonious</a:t>
            </a:r>
            <a:endParaRPr b="0" lang="en-US" sz="32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deferential- adj. very respectfu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981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124080"/>
            <a:ext cx="51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defer- to bear apart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ence- the state or condition of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  <a:p>
            <a:pPr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The deferential child never spoke out of turn or shouted indoors.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942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54:24Z</dcterms:created>
  <dc:creator>Kathy Hollywood</dc:creator>
  <dc:description/>
  <dc:language>en-US</dc:language>
  <cp:lastModifiedBy>Kathy Hollywood</cp:lastModifiedBy>
  <dcterms:modified xsi:type="dcterms:W3CDTF">2010-01-21T23:01:10Z</dcterms:modified>
  <cp:revision>5</cp:revision>
  <dc:subject/>
  <dc:title>PowerPoint Presentation</dc:title>
</cp:coreProperties>
</file>