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7C3A-14EF-4EB7-9CDC-1A1CDDE2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8F1A-E6BA-43E5-85E1-AE883E1C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6F8F-3C81-4B55-B8BA-9A0120F9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E8D4-D217-40E5-80A7-C9F2DCB9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5CC9-0F07-434B-B772-AC8322C1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1D23-07B3-4537-9C58-4451BE00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DBD1-616F-4B21-8098-C15A31BE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18D1-DA72-4485-8A99-1A63296D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236B-4DA5-4230-AE87-22BF304F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2127-09A1-4809-B11A-448470C1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F736-2260-4359-B643-A9B5CA83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693D-80E2-405C-9FF4-3490A094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72A6-606F-4384-AAF8-4F33A1CB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EF6E-8822-40B7-AFFA-31F47F6C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9390-B086-421A-BC18-813F6EB2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7CF9-68D9-4351-A924-99BB5C2B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8280-E74B-4424-98E4-902118CD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CC64-BA0D-4381-9980-B345C744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0D85-FA15-4020-8660-B565597A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D7BF-54D0-4E4D-BE7E-7D4BBCBB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0413-1220-4C7B-B1CA-9B50E8A1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08D2-345F-4080-847E-9AA05C54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04CC-0C66-4499-85AB-517DC926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BA1A-1544-4007-B36A-06499847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37B4-5405-45DB-9A4D-72EC6FC10AA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7680" y="1981080"/>
            <a:ext cx="739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8502-0D0E-4842-AADD-FE64BA637B47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440" y="2590920"/>
            <a:ext cx="4800600" cy="35049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from Latin: 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in- not</a:t>
            </a: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 congruous- to come together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The singer’s voice was incongruous, so he lost the competition.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486400" y="3048120"/>
            <a:ext cx="3657600" cy="3047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5800" y="175248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  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incongruous- adj. inconsistent or 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	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inappropriate; not harmonious</a:t>
            </a:r>
            <a:endParaRPr b="0" lang="en-US" sz="3200" spc="-1" strike="noStrike">
              <a:solidFill>
                <a:srgbClr val="ff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52480" y="1752120"/>
            <a:ext cx="6400800" cy="7621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deferential- adj. very respectfu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1981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3124080"/>
            <a:ext cx="518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defer- to bear apart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ence- the state or condition of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  <a:p>
            <a:pPr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The deferential child never spoke out of turn or shouted indoors.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3962520"/>
            <a:ext cx="19429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1:54:24Z</dcterms:created>
  <dc:creator>Kathy Hollywood</dc:creator>
  <dc:description/>
  <dc:language>en-US</dc:language>
  <cp:lastModifiedBy>Kathy Hollywood</cp:lastModifiedBy>
  <dcterms:modified xsi:type="dcterms:W3CDTF">2010-01-21T23:01:10Z</dcterms:modified>
  <cp:revision>5</cp:revision>
  <dc:subject/>
  <dc:title>PowerPoint Presentation</dc:title>
</cp:coreProperties>
</file>