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349-CF8C-4571-B612-326E21BA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73D-B8D4-4D7D-814C-7BCBA684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046-B548-485D-BBD6-222283D5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A96-DC11-4951-A256-33939917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5DC-AF62-4CFB-956F-A327AB2D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C00-5939-4D5F-B7B5-8DAE7539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08D-EEB8-4AA8-A2FA-2C4F915B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2AA-1309-4C21-8C7F-5C35CE7B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64F-8522-470A-8DA2-E69BB521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C68-DFF6-4D23-809C-D0AFC487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84B-068A-4009-9163-90406D8C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BCF-F0BB-46C5-AD7E-67FE58A6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99EF-7765-4FBC-AE09-205C25E4A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idious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IDI/FASTIDI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k of appetite, disgu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ous-ful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idious-adj. difficult to please; squeam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udge, Simon Cowell, was fastidious as Larry Platt sang his favorite song, “Pants on the Ground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american-idol-larry-platt-pants-on-the-ground-2jpg-b1f762f60174f065_large"/>
          <p:cNvPicPr/>
          <p:nvPr/>
        </p:nvPicPr>
        <p:blipFill>
          <a:blip r:embed="rId1"/>
          <a:stretch/>
        </p:blipFill>
        <p:spPr>
          <a:xfrm>
            <a:off x="5410080" y="3276720"/>
            <a:ext cx="282420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imon-Cowell"/>
          <p:cNvPicPr/>
          <p:nvPr/>
        </p:nvPicPr>
        <p:blipFill>
          <a:blip r:embed="rId2"/>
          <a:stretch/>
        </p:blipFill>
        <p:spPr>
          <a:xfrm>
            <a:off x="1371600" y="38862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rticulate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ICUL/AR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divide into joints, speak distinct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in-not; ate-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rticulate-adj. speechless; producing indistinct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enager was almost inarticulate after her parents got her a car for her sixteenth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arissa_08"/>
          <p:cNvPicPr/>
          <p:nvPr/>
        </p:nvPicPr>
        <p:blipFill>
          <a:blip r:embed="rId1"/>
          <a:stretch/>
        </p:blipFill>
        <p:spPr>
          <a:xfrm>
            <a:off x="2514600" y="3666960"/>
            <a:ext cx="42577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2:35:04Z</dcterms:created>
  <dc:creator>GACS</dc:creator>
  <dc:description/>
  <dc:language>en-US</dc:language>
  <cp:lastModifiedBy>GACS</cp:lastModifiedBy>
  <dcterms:modified xsi:type="dcterms:W3CDTF">2010-01-28T23:49:41Z</dcterms:modified>
  <cp:revision>5</cp:revision>
  <dc:subject/>
  <dc:title>fastidious</dc:title>
</cp:coreProperties>
</file>