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8DBB-F853-41A8-A7A8-6FE634D51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8D2D-FE85-427D-8FC6-370BE7BD9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E22B-66AE-49FC-99DE-FBED4CC41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3BE3-F8CC-4222-9A19-D6795F44B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A2A9-37C7-4BD4-B75B-DB4792B02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207A-73F0-46A8-929C-97091E776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062A-FFD8-44EC-A307-009FB2429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BEBE-E090-4435-83FA-2D751FC77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F259-2935-4DD7-B6C1-2FA85984A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06D5-9DF5-4066-8129-462D4E53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ED4F-9873-4243-970B-840AFD30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D3E8-1B61-4966-A89B-622E3571D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46AAC-B119-44A6-B8AA-E387CD539C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stidious</a:t>
            </a:r>
            <a:br>
              <a:rPr sz="44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ASTIDI/FASTIDIU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lack of appetite, disgus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ous-full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tidious-adj. difficult to please; squeam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judge, Simon Cowell, was fastidious as Larry Platt sang his favorite song, “Pants on the Ground.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american-idol-larry-platt-pants-on-the-ground-2jpg-b1f762f60174f065_large"/>
          <p:cNvPicPr/>
          <p:nvPr/>
        </p:nvPicPr>
        <p:blipFill>
          <a:blip r:embed="rId1"/>
          <a:stretch/>
        </p:blipFill>
        <p:spPr>
          <a:xfrm>
            <a:off x="5410080" y="3276720"/>
            <a:ext cx="2824200" cy="3124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Simon-Cowell"/>
          <p:cNvPicPr/>
          <p:nvPr/>
        </p:nvPicPr>
        <p:blipFill>
          <a:blip r:embed="rId2"/>
          <a:stretch/>
        </p:blipFill>
        <p:spPr>
          <a:xfrm>
            <a:off x="1371600" y="3886200"/>
            <a:ext cx="33526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articulate</a:t>
            </a:r>
            <a:br>
              <a:rPr sz="44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RTICUL/ARTI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divide into joints, speak distinctly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in-not; ate-to m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articulate-adj. speechless; producing indistinct 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eenager was almost inarticulate after her parents got her a car for her sixteenth birth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marissa_08"/>
          <p:cNvPicPr/>
          <p:nvPr/>
        </p:nvPicPr>
        <p:blipFill>
          <a:blip r:embed="rId1"/>
          <a:stretch/>
        </p:blipFill>
        <p:spPr>
          <a:xfrm>
            <a:off x="2514600" y="3666960"/>
            <a:ext cx="425772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2:35:04Z</dcterms:created>
  <dc:creator>GACS</dc:creator>
  <dc:description/>
  <dc:language>en-US</dc:language>
  <cp:lastModifiedBy>GACS</cp:lastModifiedBy>
  <dcterms:modified xsi:type="dcterms:W3CDTF">2010-01-28T23:49:41Z</dcterms:modified>
  <cp:revision>5</cp:revision>
  <dc:subject/>
  <dc:title>fastidious</dc:title>
</cp:coreProperties>
</file>