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184-6630-4389-BEF7-B5AB2F1A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AC6-3D95-4AEB-8586-1542E77F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D92-39D8-4092-931E-68E7CCC1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A492-156A-422C-B4BD-8B5D4AD0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1DF-6120-4B79-A103-F1EE86EF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73EA-440B-462F-8848-18AE085D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726-1A80-4281-8A29-6511326D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3B2-9246-4048-A3DE-6DA878FC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D79-A85A-434E-B56B-E75D1B9E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536-835B-4FF7-8983-B974F458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4BA-9015-4CD5-9F6E-A62D6709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F8B8-68C7-4338-95C1-0B92D05F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AEA7-B15B-462E-8E53-FB59BC63D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idious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IDI/FASTIDI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k of appetite, disgu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ous-ful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idious-adj. difficult to please; squeam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udge, Simon Cowell, was fastidious as Larry Platt sang his favorite song, “Pants on the Ground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american-idol-larry-platt-pants-on-the-ground-2jpg-b1f762f60174f065_large"/>
          <p:cNvPicPr/>
          <p:nvPr/>
        </p:nvPicPr>
        <p:blipFill>
          <a:blip r:embed="rId1"/>
          <a:stretch/>
        </p:blipFill>
        <p:spPr>
          <a:xfrm>
            <a:off x="5410080" y="3276720"/>
            <a:ext cx="2824200" cy="312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imon-Cowell"/>
          <p:cNvPicPr/>
          <p:nvPr/>
        </p:nvPicPr>
        <p:blipFill>
          <a:blip r:embed="rId2"/>
          <a:stretch/>
        </p:blipFill>
        <p:spPr>
          <a:xfrm>
            <a:off x="1371600" y="38862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articulate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ICUL/ART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divide into joints, speak distinct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in-not; ate-to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rticulate-adj. speechless; producing indistinct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enager was almost inarticulate after her parents got her a car for her sixteenth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arissa_08"/>
          <p:cNvPicPr/>
          <p:nvPr/>
        </p:nvPicPr>
        <p:blipFill>
          <a:blip r:embed="rId1"/>
          <a:stretch/>
        </p:blipFill>
        <p:spPr>
          <a:xfrm>
            <a:off x="2514600" y="3666960"/>
            <a:ext cx="42577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2:35:04Z</dcterms:created>
  <dc:creator>GACS</dc:creator>
  <dc:description/>
  <dc:language>en-US</dc:language>
  <cp:lastModifiedBy>GACS</cp:lastModifiedBy>
  <dcterms:modified xsi:type="dcterms:W3CDTF">2010-01-28T23:49:41Z</dcterms:modified>
  <cp:revision>5</cp:revision>
  <dc:subject/>
  <dc:title>fastidious</dc:title>
</cp:coreProperties>
</file>