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5C74-D5B6-4C14-B6B5-15C07105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8496-5185-4384-8F9D-7048712E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081C-D0A8-4C4F-92FD-FB5DFF40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E264-70D9-48B7-A67B-85CC8565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BF1-E58E-4626-BD0B-58216E84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E68-F9A4-4200-B6BB-3302C482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CD8-392C-48E9-9DDA-99AED5C5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7AA-C6E9-4D0B-B352-69381A4F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AE77-22C6-4700-B056-5B00BFC6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36A9-2F30-4F93-9AB1-D6101F5D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2D92-F877-4D6B-96E1-9F1402B4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4F5-2267-4082-AA12-813A6B8F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8C74-AE7B-4CCF-BC3F-C628B2DE3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idious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IDI/FASTIDI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k of appetite, disgu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ous-ful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idious-adj. difficult to please; squeam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udge, Simon Cowell, was fastidious as Larry Platt sang his favorite song, “Pants on the Ground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american-idol-larry-platt-pants-on-the-ground-2jpg-b1f762f60174f065_large"/>
          <p:cNvPicPr/>
          <p:nvPr/>
        </p:nvPicPr>
        <p:blipFill>
          <a:blip r:embed="rId1"/>
          <a:stretch/>
        </p:blipFill>
        <p:spPr>
          <a:xfrm>
            <a:off x="5410080" y="3276720"/>
            <a:ext cx="2824200" cy="312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imon-Cowell"/>
          <p:cNvPicPr/>
          <p:nvPr/>
        </p:nvPicPr>
        <p:blipFill>
          <a:blip r:embed="rId2"/>
          <a:stretch/>
        </p:blipFill>
        <p:spPr>
          <a:xfrm>
            <a:off x="1371600" y="38862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articulate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ICUL/ART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divide into joints, speak distinct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in-not; ate-to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rticulate-adj. speechless; producing indistinct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enager was almost inarticulate after her parents got her a car for her sixteenth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arissa_08"/>
          <p:cNvPicPr/>
          <p:nvPr/>
        </p:nvPicPr>
        <p:blipFill>
          <a:blip r:embed="rId1"/>
          <a:stretch/>
        </p:blipFill>
        <p:spPr>
          <a:xfrm>
            <a:off x="2514600" y="3666960"/>
            <a:ext cx="42577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2:35:04Z</dcterms:created>
  <dc:creator>GACS</dc:creator>
  <dc:description/>
  <dc:language>en-US</dc:language>
  <cp:lastModifiedBy>GACS</cp:lastModifiedBy>
  <dcterms:modified xsi:type="dcterms:W3CDTF">2010-01-28T23:49:41Z</dcterms:modified>
  <cp:revision>5</cp:revision>
  <dc:subject/>
  <dc:title>fastidious</dc:title>
</cp:coreProperties>
</file>