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E17-BA52-4235-9C63-7BC9AAB9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924-4530-49CB-9667-02673A8F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4FA-D607-4502-904C-30450080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889-98E4-49B0-A2D5-49F95B9C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A2E4-6AA8-449C-8959-7EA227AB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6BAE-F626-4FA7-8EB1-630E8271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587A-DE0D-4A95-8237-5470E526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A18-F3D8-476F-A6AA-8E175B65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9E38-9186-4BBB-A675-BD2152F3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3995-0DAA-42EC-8545-95255B90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142F-11B1-438A-92A1-7A30A64B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1DD-B449-442E-8CAA-D1A0138E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19A4-1243-4022-9580-62EE76B0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D339-0406-4F6D-8F82-C8342387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BE0D-4BB8-4830-B4DC-371D603B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13C0-D291-4663-A95A-85161A1B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35E4-B6D3-40BA-A8D1-52D0A34D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E3D-5659-4AEC-896A-3CB2E584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C6F-5A15-4B64-AC3E-FE822BFC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954-88A4-4DD2-9E69-11DA474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481-9C58-4762-A3E7-E59E0416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6F7-919A-4EFB-A8F8-DA259E5A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9C0-DD50-4D03-BFB5-F1B00876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3E5-2291-48C2-90B4-5AB36C19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7242-379E-47D8-A6BE-6327BF081CA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0DC9-9F71-4D00-9309-72C98C99669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4800600" cy="3504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rom Latin: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in- not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 congruous- to come togeth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The singer’s voice was incongruous, so he lost the competition.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17524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 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congruous- adj. inconsistent or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appropriate; not harmonious</a:t>
            </a:r>
            <a:endParaRPr b="0" lang="en-US" sz="32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deferential- adj. very respectfu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981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124080"/>
            <a:ext cx="51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defer- to bear apart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ence- the state or condition of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The deferential child never spoke out of turn or shouted indoors.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942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54:24Z</dcterms:created>
  <dc:creator>Kathy Hollywood</dc:creator>
  <dc:description/>
  <dc:language>en-US</dc:language>
  <cp:lastModifiedBy>Kathy Hollywood</cp:lastModifiedBy>
  <dcterms:modified xsi:type="dcterms:W3CDTF">2010-01-21T23:01:10Z</dcterms:modified>
  <cp:revision>5</cp:revision>
  <dc:subject/>
  <dc:title>PowerPoint Presentation</dc:title>
</cp:coreProperties>
</file>